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25A8E-DE42-4871-936E-A18E33DD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68495-2DFB-4BE7-878F-4B4BA6CE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19DC1-704E-4D0A-895E-7433BD1A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66D3C-5DD4-4FA7-8556-E05EA93C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627BA-889F-434E-B271-406104F7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90673-C62D-4735-8FEF-40D4FDF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E0F70-A295-4797-9B57-00F1C408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B3CD0-4230-4851-8DAE-F472F03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60F47-ECB9-4826-BD56-C3815F2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43EDC-27A1-421D-A1B1-C912FFD3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A1EF6-FA25-4FF8-BE99-D80F876D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708B9-A4C0-45E5-B819-E9521956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8000" y="6453000"/>
            <a:ext cx="43909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. Pfarrhofer, P. Bachhiesl, M. Kelz, H. Stögner, and A. U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292400"/>
            <a:ext cx="9144000" cy="545400"/>
            <a:chOff x="0" y="1292400"/>
            <a:chExt cx="9144000" cy="545400"/>
          </a:xfrm>
        </p:grpSpPr>
        <p:sp>
          <p:nvSpPr>
            <p:cNvPr id="2" name=""/>
            <p:cNvSpPr/>
            <p:nvPr/>
          </p:nvSpPr>
          <p:spPr>
            <a:xfrm>
              <a:off x="0" y="1292400"/>
              <a:ext cx="2858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427040"/>
              <a:ext cx="8731080" cy="274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427040"/>
              <a:ext cx="137880" cy="140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292400"/>
              <a:ext cx="139680" cy="137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427040"/>
              <a:ext cx="139680" cy="140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1566720"/>
              <a:ext cx="136440" cy="137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428480"/>
              <a:ext cx="141120" cy="13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1563480"/>
              <a:ext cx="137880" cy="137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1701720"/>
              <a:ext cx="13644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146640" y="140328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Co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85800" y="141444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MDICE - A MATLAB Toolbox for Efficient Cluster C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59640" y="6453360"/>
            <a:ext cx="2087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rinthia Tech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8628120" y="0"/>
            <a:ext cx="552240" cy="17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6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42E7-409D-4685-ACBA-3FA8724C7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Courier New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Courier New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628120" y="0"/>
            <a:ext cx="552240" cy="1700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1773360"/>
            <a:ext cx="795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ff"/>
                </a:solidFill>
                <a:latin typeface="Courier New"/>
              </a:rPr>
              <a:t>M</a:t>
            </a:r>
            <a:r>
              <a:rPr b="1" lang="de-DE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de-DE" sz="6000" spc="-1" strike="noStrike">
                <a:solidFill>
                  <a:srgbClr val="ffffff"/>
                </a:solidFill>
                <a:latin typeface="Courier New"/>
              </a:rPr>
              <a:t>DICE</a:t>
            </a:r>
            <a:br>
              <a:rPr sz="800"/>
            </a:br>
            <a:r>
              <a:rPr b="1" lang="de-DE" sz="20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ourier New"/>
              </a:rPr>
              <a:t>R. Pfarrhofer, P. Bachhiesl, M. Kelz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ourier New"/>
              </a:rPr>
              <a:t>H. Stögner, and A. Uhl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0056pfro@edu.fh-kaernten.ac.at</a:t>
            </a:r>
            <a:endParaRPr b="0" lang="en-US" sz="20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1133640"/>
            <a:ext cx="57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ParCo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MATLAB Toolbox for Efficient Cluster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60640" y="4365720"/>
            <a:ext cx="15397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Experiment set-up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infra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mach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99 GHz P4, 504 MB, with MATLAB 6.5.0, MATLAB Compiler 3.0, and LCC C compiler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6 MHz P3 and 730 MHz P3, 128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P Pr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MBit/s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00000"/>
                </a:solidFill>
                <a:latin typeface="Courier New"/>
              </a:rPr>
              <a:t>Experiment application</a:t>
            </a:r>
            <a:endParaRPr b="0" lang="en-US" sz="4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 from the ArgeSim comparison of parallel simulations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mped second order mass-sp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mping fac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andom quantity in the interval [800,12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the average response over the time interval [0,2] with the step size 0.0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00000" y="3429000"/>
                <a:ext cx="56689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0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00000"/>
                </a:solidFill>
                <a:latin typeface="Courier New"/>
              </a:rPr>
              <a:t>Experiment Results (1)</a:t>
            </a:r>
            <a:endParaRPr b="0" lang="en-US" sz="4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up of the MC-Simulation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mogenous environ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varying the problemsiz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he number of jobs distributed among the clients fixed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the number of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00000"/>
                </a:solidFill>
                <a:latin typeface="Courier New"/>
              </a:rPr>
              <a:t>Experiment Results (2)</a:t>
            </a:r>
            <a:endParaRPr b="0" lang="en-US" sz="4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5174" r="0" b="3301"/>
          <a:stretch/>
        </p:blipFill>
        <p:spPr>
          <a:xfrm>
            <a:off x="1042920" y="1765440"/>
            <a:ext cx="68421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00000"/>
                </a:solidFill>
                <a:latin typeface="Courier New"/>
              </a:rPr>
              <a:t>Experiment Results (3)</a:t>
            </a:r>
            <a:endParaRPr b="0" lang="en-US" sz="4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896000" cy="3477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13372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981080"/>
            <a:ext cx="84358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sation of execution with 14 clients and 30 jobs (6720 ite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00000"/>
                </a:solidFill>
                <a:latin typeface="Courier New"/>
              </a:rPr>
              <a:t>Experiment Results (4)</a:t>
            </a:r>
            <a:endParaRPr b="0" lang="en-US" sz="4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time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terogeneous environ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keeping the problemsize fix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the number of jobs distributed among the 6 faster and 4 slower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00000"/>
                </a:solidFill>
                <a:latin typeface="Courier New"/>
              </a:rPr>
              <a:t>Experiment Results (5)</a:t>
            </a:r>
            <a:endParaRPr b="0" lang="en-US" sz="4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90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00000"/>
                </a:solidFill>
                <a:latin typeface="Courier New"/>
              </a:rPr>
              <a:t>Experiment Results (6)</a:t>
            </a:r>
            <a:endParaRPr b="0" lang="en-US" sz="4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213372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981080"/>
            <a:ext cx="84358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sation of execution with 10 client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jobs (6720 ite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832" r="0" b="0"/>
          <a:stretch/>
        </p:blipFill>
        <p:spPr>
          <a:xfrm>
            <a:off x="2052720" y="2924280"/>
            <a:ext cx="48243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00000"/>
                </a:solidFill>
                <a:latin typeface="Courier New"/>
              </a:rPr>
              <a:t>Experiment Results (7)</a:t>
            </a:r>
            <a:endParaRPr b="0" lang="en-US" sz="4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interfering application running on MDICE client mas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e execute our MC-Simulation code in sequential on two out of four clients running the MC code unter M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4467240"/>
            <a:ext cx="72010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Conclusion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DICE may take advantage of the large number of Windows NT based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The most important property is that no MATLAB client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ased on the experimental setup, it proves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ery flexibl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fficient in term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ow licencing fe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xecution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Outline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s of M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set-up an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Introduction (1)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established as the numerical compu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cientific applications demand a high level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HPC systems in many universities an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ing MATLAB on such systems is ob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Introduction (2)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to use MATLAB on HPC archit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high performance numerical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ing MATLAB to anoth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a high performanc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up work among multiple MATLAB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Introduction (3)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intention is to devel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 performanc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nly requires one MATLAB Client on the server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velopment should a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 licensing fee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 computa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MDICE (1)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704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ased on the PARMATLAB and TCPIP tool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oarse grained parallelizatio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s processes over the intranet/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91360" y="1876320"/>
            <a:ext cx="2457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MDICE (2)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704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-server concept of M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5628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MDICE (3)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compiler limitations and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-in MATLAB functions cannot be comp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vailable in the MATLAB C/C++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70 functions (e.g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) are not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ment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e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 to be known at compile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000000"/>
                </a:solidFill>
                <a:latin typeface="Courier New"/>
              </a:rPr>
              <a:t>MDICE (4)</a:t>
            </a:r>
            <a:endParaRPr b="0" lang="en-US" sz="5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62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 of the replacement of the func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de ist taken from the client where the computation result is being sent to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4094280"/>
            <a:ext cx="7848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5:11:56Z</dcterms:created>
  <dc:creator>x</dc:creator>
  <dc:description/>
  <dc:language>en-US</dc:language>
  <cp:lastModifiedBy>Roman</cp:lastModifiedBy>
  <dcterms:modified xsi:type="dcterms:W3CDTF">2003-08-31T17:24:58Z</dcterms:modified>
  <cp:revision>174</cp:revision>
  <dc:subject/>
  <dc:title>Folie 1</dc:title>
</cp:coreProperties>
</file>