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3942-C7BC-4CCE-BBB0-8B85BB07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9C1-1641-4030-B17A-FBF1E06C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635A-295C-46AD-BF81-46094800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B69E-6BCA-4CD4-932B-DC5AA672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BBD2-4C4C-4173-91F7-F8CD2D83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67BE-0507-4F9E-9F15-2EF53792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0E77-A757-4EBA-BD24-1907953F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BB4C-FD4E-47A6-A003-A6CC3CF7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DBDE-7846-4DF3-BFC3-44E03664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91C8-F8CA-4B24-BE45-3B0B250F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02EC-0FDF-4EE4-B568-8B365E58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076C-EF32-486A-8554-2D5C330D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05D8-7A12-4FB6-B5E7-562CB995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EB59-9432-4CEA-BDD4-BF23CDBA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D26D-B1AE-4749-8D21-CF5DDD94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DF9C-1693-455A-8F06-72CC8371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591C-12BB-4AB1-BC4F-69128C3A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29FE-3F0D-4F91-BC13-55CD5439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BAD0-337D-4D7E-88DB-47DB3C2A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CAE-28B4-4517-A26E-7DBF4849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6AA7-CF97-4299-9C9F-DD88387E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D28D-1951-47AC-87FC-3C1D2438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858A-4AD9-4B63-9DB9-672DA7B9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93B6-F708-4A8D-9050-C28ACD29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EE91-B84C-48BC-92AA-DDEF99E1E32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C18C-184C-4D82-AF5B-C7B8405B747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63244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Lazy Parallelization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                                  </a:t>
            </a:r>
            <a:br>
              <a:rPr sz="3200"/>
            </a:br>
            <a:br>
              <a:rPr sz="2000"/>
            </a:b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A Finite State Machine Based Optimization Approach for Data Parallel Image Processing Applications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3809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ank Seinstra        Dennis Koel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telligent Sensory Information System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Faculty of Science, University of Amsterdam, The Netherlan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4" name="Isis" descr=""/>
          <p:cNvPicPr/>
          <p:nvPr/>
        </p:nvPicPr>
        <p:blipFill>
          <a:blip r:embed="rId1"/>
          <a:stretch/>
        </p:blipFill>
        <p:spPr>
          <a:xfrm>
            <a:off x="4267080" y="5943600"/>
            <a:ext cx="1295640" cy="681120"/>
          </a:xfrm>
          <a:prstGeom prst="rect">
            <a:avLst/>
          </a:prstGeom>
          <a:ln w="0">
            <a:noFill/>
          </a:ln>
        </p:spPr>
      </p:pic>
      <p:pic>
        <p:nvPicPr>
          <p:cNvPr id="95" name="uva" descr=""/>
          <p:cNvPicPr/>
          <p:nvPr/>
        </p:nvPicPr>
        <p:blipFill>
          <a:blip r:embed="rId2"/>
          <a:stretch/>
        </p:blipFill>
        <p:spPr>
          <a:xfrm>
            <a:off x="3276720" y="5943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azy Parallelization (2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2209680"/>
            <a:ext cx="8610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te transition functions allow correct conversion of legal sequential code to legal parallel code at all tim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124080"/>
            <a:ext cx="8382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ice featur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quires no a priori knowledge of loops and branch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n be done on the fly at run-time (cheap!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t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hoosing cheapest state transition function does not always guarantee time-optimal program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lthough usually quite good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-optimality by compile-time construction of ‘Application State Transition Graph’ (AST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45720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Example: Curvilinear Structure Detec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434340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pply anisotropic Gaussian filter bank to input ima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ximum response when filter tuned to line dire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re 2 different implementat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rotating filters applied to fixed input image, either separable (UV) or non-separable (2D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pending on parameter space: few minutes - several hou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4" name="spiral2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05" name="spiralres" descr=""/>
          <p:cNvPicPr/>
          <p:nvPr/>
        </p:nvPicPr>
        <p:blipFill>
          <a:blip r:embed="rId2"/>
          <a:stretch/>
        </p:blipFill>
        <p:spPr>
          <a:xfrm>
            <a:off x="2438280" y="2362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06" name="celeg" descr=""/>
          <p:cNvPicPr/>
          <p:nvPr/>
        </p:nvPicPr>
        <p:blipFill>
          <a:blip r:embed="rId3"/>
          <a:stretch/>
        </p:blipFill>
        <p:spPr>
          <a:xfrm>
            <a:off x="5029200" y="1371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07" name="celegres4" descr="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1905120"/>
            <a:ext cx="6781680" cy="3276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Implementation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sequential=parallel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1828800"/>
            <a:ext cx="6782040" cy="3276720"/>
          </a:xfrm>
          <a:prstGeom prst="rect">
            <a:avLst/>
          </a:prstGeom>
          <a:solidFill>
            <a:srgbClr val="9933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3000" y="1905120"/>
            <a:ext cx="6629400" cy="30740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for all orientations theta {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for all smoothing scales sy {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for all differentiation scales sx {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genConvolution </a:t>
            </a: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( filtIm1,  mirrorBorder,  “</a:t>
            </a:r>
            <a:r>
              <a:rPr b="1" i="1" lang="en-US" sz="1600" spc="-1" strike="noStrike">
                <a:solidFill>
                  <a:srgbClr val="ffcc66"/>
                </a:solidFill>
                <a:latin typeface="Times New Roman"/>
              </a:rPr>
              <a:t>func</a:t>
            </a: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”, sx,  sy,  2,  0 )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genConvolution </a:t>
            </a: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( filtIm2,  mirrorBorder,  “</a:t>
            </a:r>
            <a:r>
              <a:rPr b="1" i="1" lang="en-US" sz="1600" spc="-1" strike="noStrike">
                <a:solidFill>
                  <a:srgbClr val="ffcc66"/>
                </a:solidFill>
                <a:latin typeface="Times New Roman"/>
              </a:rPr>
              <a:t>func</a:t>
            </a: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”, sx,  sy,  0,  0 )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binaryPixOpI </a:t>
            </a: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( filtIm1,  filtIm2,  “negdiv” )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binaryPixOpC </a:t>
            </a: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( filtIm1,  sx*sy,  “mul” )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binaryPixOpI </a:t>
            </a: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( resltIm,  filtIm1,  “max” )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5486400"/>
            <a:ext cx="647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ferred to as: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Conv2D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ConvUV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gorithms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 “func”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is either “gauss2D” or “gaussUV” 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5334120" y="2057400"/>
          <a:ext cx="3581280" cy="215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057400"/>
                    <a:ext cx="3581280" cy="21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Measurements on VU-DAS-2 (1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5812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512x512 input image;  36 orientations;                      8 anisotropic filt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57200" y="3243240"/>
          <a:ext cx="5410080" cy="3386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43240"/>
                    <a:ext cx="5410080" cy="33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6019920" y="4495680"/>
            <a:ext cx="2895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Architecture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64 1-Ghz dual Pentium III nod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(used 1 CPU per node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1 Gbyte RA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Myrinet 2000 networ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RedHat Linux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5334120" y="2057400"/>
          <a:ext cx="3581280" cy="215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057400"/>
                    <a:ext cx="3581280" cy="21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457200" y="3276720"/>
          <a:ext cx="5445000" cy="3352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54450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Measurements on VU-DAS-2 (2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5812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512x512 input image;  36 orientations;                      8 anisotropic filt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19920" y="4495680"/>
            <a:ext cx="2895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Architecture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64 1-Ghz dual Pentium III nod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(used 2 CPUs per node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1 Gbyte RA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Myrinet 2000 networ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RedHat Linux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clus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zy paralleliza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enerates legal/correct/efficient parallel code for any sequential program implemented using the ParHorus software libra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egant approach; can be performed on the fly at run-time without knowledge of application’s branching behavi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quires very little runtime overhe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 always time-optimal; full optimization can be achieved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at compile-time only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using ASTG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not presented her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For more information..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2057400"/>
            <a:ext cx="8534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rus: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ttp://www.science.uva.nl/~horus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Horus: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ttp://www.science.uva.nl/~fjseins/ParHorusCode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lected Papers: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ttp://www.science.uva.nl/~fjseins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User Transparency: A Fully Sequential Programming Model for Efficient Data Parallel Image Processing                                                        </a:t>
            </a:r>
            <a:r>
              <a:rPr b="0" i="1" lang="en-US" sz="1800" spc="-1" strike="noStrike">
                <a:solidFill>
                  <a:srgbClr val="ffcc66"/>
                </a:solidFill>
                <a:latin typeface="Times New Roman"/>
              </a:rPr>
              <a:t>Concurrency and Computation: Practice &amp; Experience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, in press, 200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corporating Memory Layout in the Modeling of Message Passing Programs </a:t>
            </a:r>
            <a:r>
              <a:rPr b="0" i="1" lang="en-US" sz="1800" spc="-1" strike="noStrike">
                <a:solidFill>
                  <a:srgbClr val="ffcc66"/>
                </a:solidFill>
                <a:latin typeface="Times New Roman"/>
              </a:rPr>
              <a:t>Journal of Systems Architecture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, in press, 200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 Software Architecture for User Transparent Parallel Image Processing       </a:t>
            </a:r>
            <a:r>
              <a:rPr b="0" i="1" lang="en-US" sz="1800" spc="-1" strike="noStrike">
                <a:solidFill>
                  <a:srgbClr val="ffcc66"/>
                </a:solidFill>
                <a:latin typeface="Times New Roman"/>
              </a:rPr>
              <a:t>Parallel Computing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, 18(7-8), August 200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-3PC: A Point-to-Point Communication Model for Automatic and Optimal Decomposition of Regular Domain Problems                                           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ffcc66"/>
                </a:solidFill>
                <a:latin typeface="Times New Roman"/>
              </a:rPr>
              <a:t>IEEE Transactions on Parallel and Distributed Systems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, 13(7), July 200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ParHorus: Initial Observation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3657240"/>
            <a:ext cx="83818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imary caus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parallelization tool exists that matches the entrance level of non-expert parallel programm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amiliar’ tool provided by computing commun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2096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earchers in image processing do not benefit from high performance computing on a daily ba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Existing Parallelization Tool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057400"/>
            <a:ext cx="0" cy="4191120"/>
          </a:xfrm>
          <a:prstGeom prst="line">
            <a:avLst/>
          </a:prstGeom>
          <a:ln w="316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6248520"/>
            <a:ext cx="7772400" cy="0"/>
          </a:xfrm>
          <a:prstGeom prst="line">
            <a:avLst/>
          </a:prstGeom>
          <a:ln w="316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320" y="2666880"/>
            <a:ext cx="851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Effor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33520" y="2057400"/>
            <a:ext cx="0" cy="533520"/>
          </a:xfrm>
          <a:prstGeom prst="line">
            <a:avLst/>
          </a:prstGeom>
          <a:ln w="1908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05720" y="6248160"/>
            <a:ext cx="139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Efficienc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83520" y="5485320"/>
            <a:ext cx="199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Automatic Parallelizin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Compiler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4464360"/>
            <a:ext cx="18669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Extended High Leve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Languages (e.g., HPF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36320" y="3656520"/>
            <a:ext cx="1660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Parallel Languag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(e.g., Occam, Orca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2040" y="2818080"/>
            <a:ext cx="24404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Shared Memory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Specifications (e.g., OpenMP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79880" y="1980000"/>
            <a:ext cx="22485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Message Passin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Libraries (e.g., MPI, PVM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153280" y="6477120"/>
            <a:ext cx="609840" cy="0"/>
          </a:xfrm>
          <a:prstGeom prst="line">
            <a:avLst/>
          </a:prstGeom>
          <a:ln w="1908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477120" y="4343400"/>
            <a:ext cx="2541240" cy="1905120"/>
            <a:chOff x="6477120" y="4343400"/>
            <a:chExt cx="2541240" cy="1905120"/>
          </a:xfrm>
        </p:grpSpPr>
        <p:sp>
          <p:nvSpPr>
            <p:cNvPr id="112" name=""/>
            <p:cNvSpPr/>
            <p:nvPr/>
          </p:nvSpPr>
          <p:spPr>
            <a:xfrm>
              <a:off x="6477120" y="5248440"/>
              <a:ext cx="2438280" cy="1000080"/>
            </a:xfrm>
            <a:prstGeom prst="ellipse">
              <a:avLst/>
            </a:prstGeom>
            <a:noFill/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88400" y="4343400"/>
              <a:ext cx="192996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cc00"/>
                  </a:solidFill>
                  <a:latin typeface="Times New Roman"/>
                </a:rPr>
                <a:t>User Transparen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cc00"/>
                  </a:solidFill>
                  <a:latin typeface="Times New Roman"/>
                </a:rPr>
                <a:t>Parallelization Tool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543800" y="4915080"/>
              <a:ext cx="152280" cy="3333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335840" y="5714640"/>
            <a:ext cx="2923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Parallel Image Processing Librari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68920"/>
            <a:ext cx="23828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Parallel Image Processin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Languages (e.g., Apply, IAL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Existing Parallel Im.-Proc. Librari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962520"/>
            <a:ext cx="8534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duced maintainability / portabilit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ultiple implementations for each operation: 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[Jamieson94]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restricted to particular machine: 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[Moore97, Webb93]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n-optimal efficiency of parallel execu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gnore machine characteristics for optimization: 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[Juhasz98, Lee97]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209680"/>
            <a:ext cx="8153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ffer from several problem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‘familiar’ programming model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dentifying parallelism still responsibility of programmer:         (e.g., data partitioning 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[Taniguchi97</a:t>
            </a: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]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, loop parallelism 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[Nicolescu02, Olk95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7200" y="6019920"/>
            <a:ext cx="8534520" cy="571320"/>
            <a:chOff x="457200" y="6019920"/>
            <a:chExt cx="8534520" cy="571320"/>
          </a:xfrm>
        </p:grpSpPr>
        <p:sp>
          <p:nvSpPr>
            <p:cNvPr id="121" name=""/>
            <p:cNvSpPr/>
            <p:nvPr/>
          </p:nvSpPr>
          <p:spPr>
            <a:xfrm>
              <a:off x="457200" y="6095880"/>
              <a:ext cx="8534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lvl="2" marL="1074240" indent="-214560">
                <a:spcBef>
                  <a:spcPts val="349"/>
                </a:spcBef>
                <a:buClr>
                  <a:srgbClr val="ffcc66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ignore optimization across library calls: </a:t>
              </a:r>
              <a:r>
                <a:rPr b="0" lang="en-US" sz="1400" spc="-1" strike="noStrike">
                  <a:solidFill>
                    <a:srgbClr val="ffcc66"/>
                  </a:solidFill>
                  <a:latin typeface="Times New Roman"/>
                </a:rPr>
                <a:t>[all]</a:t>
              </a: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 - partial: </a:t>
              </a:r>
              <a:r>
                <a:rPr b="0" lang="en-US" sz="1400" spc="-1" strike="noStrike">
                  <a:solidFill>
                    <a:srgbClr val="ffcc66"/>
                  </a:solidFill>
                  <a:latin typeface="Times New Roman"/>
                </a:rPr>
                <a:t>[Lee97, Morrow99]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990720" y="6019920"/>
              <a:ext cx="152280" cy="571320"/>
            </a:xfrm>
            <a:prstGeom prst="rect">
              <a:avLst/>
            </a:prstGeom>
          </p:spPr>
          <p:txBody>
            <a:bodyPr wrap="none" lIns="91800" rIns="91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66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!</a:t>
              </a:r>
              <a:endParaRPr b="0" lang="en-US" sz="24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Our Approach: ParHoru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0968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Sustainab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library-based software architecture for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user transparen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parallel image proces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57200" y="3200400"/>
            <a:ext cx="8534520" cy="3352680"/>
            <a:chOff x="457200" y="3200400"/>
            <a:chExt cx="8534520" cy="3352680"/>
          </a:xfrm>
        </p:grpSpPr>
        <p:sp>
          <p:nvSpPr>
            <p:cNvPr id="126" name=""/>
            <p:cNvSpPr/>
            <p:nvPr/>
          </p:nvSpPr>
          <p:spPr>
            <a:xfrm>
              <a:off x="457200" y="3200400"/>
              <a:ext cx="8534520" cy="33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spcBef>
                  <a:spcPts val="700"/>
                </a:spcBef>
                <a:buClr>
                  <a:srgbClr val="ffcc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66"/>
                  </a:solidFill>
                  <a:latin typeface="Times New Roman"/>
                </a:rPr>
                <a:t>(1) Sustainability: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lvl="2" marL="1143000" indent="-228600">
                <a:spcBef>
                  <a:spcPts val="601"/>
                </a:spcBef>
                <a:buClr>
                  <a:srgbClr val="ffcc66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maintainability, extensibility, portability (</a:t>
              </a: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i.e., Horus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lvl="2" marL="1143000" indent="-228600">
                <a:spcBef>
                  <a:spcPts val="601"/>
                </a:spcBef>
                <a:buClr>
                  <a:srgbClr val="ffcc66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applicability to Beowulf-type commodity cluster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27" name="das64c" descr=""/>
            <p:cNvPicPr/>
            <p:nvPr/>
          </p:nvPicPr>
          <p:blipFill>
            <a:blip r:embed="rId1"/>
            <a:stretch/>
          </p:blipFill>
          <p:spPr>
            <a:xfrm>
              <a:off x="3505320" y="4648320"/>
              <a:ext cx="2176200" cy="182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457200" y="4648320"/>
            <a:ext cx="8534520" cy="190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(2) User transparenc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rictly sequential API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.g., identical to Horu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ra-operation efficiency +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inter-operation efficienc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Inter-Operation Optimization Prob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207520"/>
            <a:ext cx="35053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SEQUENTIAL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imes New Roman"/>
              </a:rPr>
              <a:t>readFile(ImA, “img.tif”)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imes New Roman"/>
              </a:rPr>
              <a:t>binPixOpV(ImA, ImB, “mult”, 3)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imes New Roman"/>
              </a:rPr>
              <a:t>binPixOpI(ImB, ImC, “add”, ImA)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imes New Roman"/>
              </a:rPr>
              <a:t>writeFile(ImC, “img2.tif”)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imes New Roman"/>
              </a:rPr>
              <a:t>delete(ImA)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imes New Roman"/>
              </a:rPr>
              <a:t>delete(ImB)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imes New Roman"/>
              </a:rPr>
              <a:t>delete(ImC)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2133720"/>
            <a:ext cx="3581280" cy="289548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029200" y="3885840"/>
            <a:ext cx="1981080" cy="914400"/>
            <a:chOff x="5029200" y="3885840"/>
            <a:chExt cx="1981080" cy="914400"/>
          </a:xfrm>
        </p:grpSpPr>
        <p:sp>
          <p:nvSpPr>
            <p:cNvPr id="133" name=""/>
            <p:cNvSpPr/>
            <p:nvPr/>
          </p:nvSpPr>
          <p:spPr>
            <a:xfrm flipV="1">
              <a:off x="5029200" y="3885840"/>
              <a:ext cx="1981080" cy="152280"/>
            </a:xfrm>
            <a:prstGeom prst="line">
              <a:avLst/>
            </a:prstGeom>
            <a:ln w="316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029200" y="4647960"/>
              <a:ext cx="1981080" cy="152280"/>
            </a:xfrm>
            <a:prstGeom prst="line">
              <a:avLst/>
            </a:prstGeom>
            <a:ln w="316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029200" y="3657240"/>
            <a:ext cx="1981080" cy="1448280"/>
            <a:chOff x="5029200" y="3657240"/>
            <a:chExt cx="1981080" cy="1448280"/>
          </a:xfrm>
        </p:grpSpPr>
        <p:sp>
          <p:nvSpPr>
            <p:cNvPr id="136" name=""/>
            <p:cNvSpPr/>
            <p:nvPr/>
          </p:nvSpPr>
          <p:spPr>
            <a:xfrm flipV="1">
              <a:off x="5029200" y="3657240"/>
              <a:ext cx="1981080" cy="1522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029200" y="4190760"/>
              <a:ext cx="1981080" cy="1522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029200" y="4952880"/>
              <a:ext cx="1981080" cy="152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80880" y="2133720"/>
            <a:ext cx="8534520" cy="4572000"/>
            <a:chOff x="380880" y="2133720"/>
            <a:chExt cx="8534520" cy="4572000"/>
          </a:xfrm>
        </p:grpSpPr>
        <p:sp>
          <p:nvSpPr>
            <p:cNvPr id="140" name=""/>
            <p:cNvSpPr/>
            <p:nvPr/>
          </p:nvSpPr>
          <p:spPr>
            <a:xfrm>
              <a:off x="5029200" y="2298600"/>
              <a:ext cx="3886200" cy="433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PARALLEL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Times New Roman"/>
                </a:rPr>
                <a:t>scatter(ImA, ImA*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Times New Roman"/>
                </a:rPr>
                <a:t>binPixOpV(ImA*, ImB*, “mult”, 3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Times New Roman"/>
                </a:rPr>
                <a:t>gather(ImB*, ImB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Times New Roman"/>
                </a:rPr>
                <a:t>delete(ImA*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Times New Roman"/>
                </a:rPr>
                <a:t>delete(ImB*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Times New Roman"/>
                </a:rPr>
                <a:t>scatter(ImA, ImA*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Times New Roman"/>
                </a:rPr>
                <a:t>scatter(ImB, ImB*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Times New Roman"/>
                </a:rPr>
                <a:t>binPixOpI(ImB*, ImC*, “add”, ImA*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Times New Roman"/>
                </a:rPr>
                <a:t>gather(ImC*, ImC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Times New Roman"/>
                </a:rPr>
                <a:t>delete(ImA*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Times New Roman"/>
                </a:rPr>
                <a:t>delete(ImB*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Times New Roman"/>
                </a:rPr>
                <a:t>delete(ImC*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52880" y="2133720"/>
              <a:ext cx="3962520" cy="457200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05400" y="5790960"/>
              <a:ext cx="3505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 “</a:t>
              </a: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Default Algorithm Expansion”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62520" y="3200400"/>
              <a:ext cx="914400" cy="48564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80" y="3165480"/>
              <a:ext cx="3429000" cy="630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binPixOpV(ImA, ImB, “mult”, 3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binPixOpI(ImB, ImC, “add”, ImA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52880" y="4495680"/>
              <a:ext cx="3962520" cy="0"/>
            </a:xfrm>
            <a:prstGeom prst="line">
              <a:avLst/>
            </a:prstGeom>
            <a:ln w="936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209680" y="2362320"/>
            <a:ext cx="5105160" cy="1218960"/>
            <a:chOff x="2209680" y="2362320"/>
            <a:chExt cx="5105160" cy="1218960"/>
          </a:xfrm>
        </p:grpSpPr>
        <p:sp>
          <p:nvSpPr>
            <p:cNvPr id="147" name=""/>
            <p:cNvSpPr/>
            <p:nvPr/>
          </p:nvSpPr>
          <p:spPr>
            <a:xfrm>
              <a:off x="2209680" y="2362320"/>
              <a:ext cx="5105160" cy="1218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209680" y="2362320"/>
              <a:ext cx="5105160" cy="1218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09680" y="2362320"/>
              <a:ext cx="51051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09680" y="3581280"/>
              <a:ext cx="51051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314840" y="2362320"/>
              <a:ext cx="0" cy="1218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2209680" y="2362320"/>
              <a:ext cx="0" cy="1218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Intermezzo:                                 Distributed Image Data Structur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396252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tributed image data structure abstra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-tuple: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&lt;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tate of global, state of local, distribution type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&gt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4876920"/>
            <a:ext cx="8763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ate of  global     =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{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none, created, valid, invalid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}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ate of  local       =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{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none, valid, invalid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}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stribution type  =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{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none, partial, full, not-reduced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}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6920" y="1981440"/>
            <a:ext cx="1450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CPU 0 (host) 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3960" y="3657960"/>
            <a:ext cx="753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CPU 3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4760" y="3657960"/>
            <a:ext cx="753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CPU 2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33960" y="1981440"/>
            <a:ext cx="753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CPU 1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743560"/>
            <a:ext cx="1600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global structur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236232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990720" y="1828800"/>
          <a:ext cx="9144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2209680" y="2362320"/>
            <a:ext cx="5105520" cy="1218960"/>
            <a:chOff x="2209680" y="2362320"/>
            <a:chExt cx="5105520" cy="1218960"/>
          </a:xfrm>
        </p:grpSpPr>
        <p:sp>
          <p:nvSpPr>
            <p:cNvPr id="165" name=""/>
            <p:cNvSpPr/>
            <p:nvPr/>
          </p:nvSpPr>
          <p:spPr>
            <a:xfrm>
              <a:off x="7162920" y="3429000"/>
              <a:ext cx="15228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209680" y="3429000"/>
              <a:ext cx="15264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162920" y="2438280"/>
              <a:ext cx="15228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09680" y="2362320"/>
              <a:ext cx="51055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209680" y="2362320"/>
              <a:ext cx="51055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09680" y="236232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09680" y="358128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315200" y="2362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209680" y="2362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65040" y="2819880"/>
              <a:ext cx="1519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local structur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52680" y="2743200"/>
              <a:ext cx="609840" cy="1522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86400" y="3048120"/>
              <a:ext cx="609480" cy="1522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486040" y="2743200"/>
              <a:ext cx="609480" cy="1522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352680" y="3048120"/>
              <a:ext cx="609840" cy="1522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09680" y="2438280"/>
              <a:ext cx="15264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aphicFrame>
          <p:nvGraphicFramePr>
            <p:cNvPr id="180" name=""/>
            <p:cNvGraphicFramePr/>
            <p:nvPr/>
          </p:nvGraphicFramePr>
          <p:xfrm>
            <a:off x="6248520" y="3200400"/>
            <a:ext cx="914400" cy="228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48520" y="3200400"/>
                      <a:ext cx="9144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2" name=""/>
            <p:cNvGraphicFramePr/>
            <p:nvPr/>
          </p:nvGraphicFramePr>
          <p:xfrm>
            <a:off x="2362320" y="3200400"/>
            <a:ext cx="914400" cy="22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62320" y="3200400"/>
                      <a:ext cx="9144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4" name=""/>
            <p:cNvGraphicFramePr/>
            <p:nvPr/>
          </p:nvGraphicFramePr>
          <p:xfrm>
            <a:off x="6248520" y="2514600"/>
            <a:ext cx="914400" cy="228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48520" y="2514600"/>
                      <a:ext cx="9144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"/>
            <p:cNvGraphicFramePr/>
            <p:nvPr/>
          </p:nvGraphicFramePr>
          <p:xfrm>
            <a:off x="2362320" y="2514600"/>
            <a:ext cx="914400" cy="228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362320" y="2514600"/>
                      <a:ext cx="9144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08160" y="228600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08160" y="350532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617220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9 combinations are ‘legal’ states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e.g.: &lt;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valid, valid, partial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&gt; 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Lazy Parallelization (1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220968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stead of ‘default algorithm expansion’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sert communication- &amp; memory-management operations only when mandato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3581280"/>
            <a:ext cx="84582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fine for each image operation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(see Tables 3 &amp; 4 in paper)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allowed states for each input data struc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resulting states for each output data struc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serted communication- &amp; memory-operations serve as state transition functions for resolution of state inconsistenc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educed State Transition Graph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209680" y="1523880"/>
          <a:ext cx="4856400" cy="516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523880"/>
                    <a:ext cx="4856400" cy="51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8T10:41:29Z</dcterms:created>
  <dc:creator>Faculteit WINS</dc:creator>
  <dc:description/>
  <dc:language>en-US</dc:language>
  <cp:lastModifiedBy>fjseins</cp:lastModifiedBy>
  <cp:lastPrinted>1999-03-31T15:06:03Z</cp:lastPrinted>
  <dcterms:modified xsi:type="dcterms:W3CDTF">2003-04-15T13:30:18Z</dcterms:modified>
  <cp:revision>108</cp:revision>
  <dc:subject/>
  <dc:title>P-3PC: A Simple and Accurate Model of Point-to-Point Communication</dc:title>
</cp:coreProperties>
</file>