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449-5EC0-4F36-85BA-EC889861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3326-568E-4698-B1D6-2090C7CD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658-3AAB-4979-918D-6EAC7068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AA41-B75A-4DE9-8026-19680B0E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8D7F-B951-4B31-806D-19E2FDFB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3F26-3ACE-4056-9610-8BB91814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4D19-59FC-4697-93F3-3C6381A7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B13A-59E1-4E43-AF4C-94AFE514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2217-2F41-45A4-BFB1-AC427C7D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3553-0450-49AD-BF08-E77DF2FF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D976-6043-43F3-81BA-431D3D90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813F-8536-4FBC-B4E7-CCA70568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A6FC-1D4B-4476-9221-3B4BD262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E0B2-93D7-4A79-9D87-615F4A93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5A11-8107-4F9D-B5AC-23528165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6349-940D-404B-A12B-C9515FD1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7A6A-3CF9-452D-A964-5EC542D3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2ED6-D067-424F-BCB8-DF08C61A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8A7E-B98D-4ED0-8995-4B279BEA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2A8-9C83-43CB-AC2E-9265CCF3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AEA-56A6-4066-9581-AD2D1B70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9925-049C-4C60-8CF6-C7F3EFC1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84D-58CC-4553-8C58-948C42FD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B8C-4C6B-413C-AC15-560BB05D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BFA7-16C7-4E72-9933-E5A6F1D464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C0CD-4BDB-4801-8AA4-3D700F428F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09680" y="685800"/>
            <a:ext cx="5410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66ff33"/>
                </a:solidFill>
                <a:latin typeface="Arial Black"/>
              </a:rPr>
              <a:t>InfoWarrio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266688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ine Information System for News Agen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se Case: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formation Gatheri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3" name="UC_InformationGathering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39152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Workflow Syste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5" name="foo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69608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equest Handli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7" name="CD_RequestHandling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698184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sed Patter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odel View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em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omm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ront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alue List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ata Access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System Architecture [0]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ulti Tier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XML (Dat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XSLT (Visualiz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ava Server Pages (Presentation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ava Beans (Business Log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ystem Architecture [1]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3" name="DD_DesignContext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229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18:15:24Z</dcterms:created>
  <dc:creator>Fenri</dc:creator>
  <dc:description/>
  <dc:language>en-US</dc:language>
  <cp:lastModifiedBy>Thomas</cp:lastModifiedBy>
  <dcterms:modified xsi:type="dcterms:W3CDTF">2002-01-22T19:11:34Z</dcterms:modified>
  <cp:revision>18</cp:revision>
  <dc:subject/>
  <dc:title>YARB</dc:title>
</cp:coreProperties>
</file>