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2A1-09D0-483B-BE20-ADF796D2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488-03E0-4ACA-AF20-EF55EFD6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087-6557-4744-A228-C754CFF0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AEE-54BD-4A12-AF51-68E48393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CEC7-7D4D-4A12-86C5-5CFE6BD6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FAF7-F939-4964-B7A5-C5FFA072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2816-6D5E-4E78-9978-094D1369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2B9A-83E4-42E0-95B5-B6EFDFE9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86DC-D242-405A-8137-861D8F09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20C5-8BB6-45A7-A6DC-3D753580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1935-ECF1-4400-90C2-C3399BE8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F57-28D6-44F2-B991-343C99F7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7258-909C-4687-9C70-2D50CD1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CE41-8BCC-445F-BD01-F304F913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1A4E-0B3D-46EA-90DE-C147A391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734F-A26C-4108-8E44-01748E7D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CD88-F9F1-4E10-BAC0-B3117F45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BCD-BF63-459F-B1A8-2500968F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990-B8C1-4A55-A58F-6F4DFC3C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299-BAB6-4565-8D8F-E1C707E6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6E2-F840-43FE-BD5F-FDF7CD97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C6F-E8EF-4F4D-9BC0-55040409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062-D731-4878-80EE-448AA00F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02B-C48A-4B2D-AF49-9DE4F8FE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7DD4-CE54-41F0-BA2B-3865C4460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DD74-6B0B-41B7-BB51-0676AADCE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Times New Roman"/>
              </a:rPr>
              <a:t>Programmierpraktikum II SS 2000 Projektgruppe 5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560" y="3657240"/>
            <a:ext cx="6553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Times New Roman"/>
              </a:rPr>
              <a:t>Clemens Bau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Times New Roman"/>
              </a:rPr>
              <a:t>Peter Eisenman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Times New Roman"/>
              </a:rPr>
              <a:t>Thomas Frommwa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Times New Roman"/>
              </a:rPr>
              <a:t>Daniel Kad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Times New Roman"/>
              </a:rPr>
              <a:t>Michael Liedlgru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6858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 Black"/>
              </a:rPr>
              <a:t>ALGA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8288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imulation eines Multi-Agenten-Systems in einer dynamischen Umw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genten sind Algen, die in einem Aquarium le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genten werden durch ein Neuronales Netz gesteu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ortpflanzung sexuell oder asexuell durch Zellteil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hotosynthese oder Substrataufnahme zur Energiegewinn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raphische Ausgabe in Echtz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Was ist </a:t>
            </a:r>
            <a:r>
              <a:rPr b="0" i="1" lang="de-DE" sz="4400" spc="-1" strike="noStrike">
                <a:solidFill>
                  <a:srgbClr val="ffcc66"/>
                </a:solidFill>
                <a:latin typeface="Times New Roman"/>
              </a:rPr>
              <a:t>Algae</a:t>
            </a: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 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Aquari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6" name="aquarium" descr=""/>
          <p:cNvPicPr/>
          <p:nvPr/>
        </p:nvPicPr>
        <p:blipFill>
          <a:blip r:embed="rId1"/>
          <a:stretch/>
        </p:blipFill>
        <p:spPr>
          <a:xfrm>
            <a:off x="2190600" y="1990800"/>
            <a:ext cx="4762800" cy="2876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54100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 Welt, in der unsere Agenten leben. Es handelt sich um ein Aquarium mit einer homogenen Lichtquelle auf der Oberseite und einer Nährsubstratquelle am Bod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Licht und Substr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905120"/>
            <a:ext cx="8153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ag/ Nacht Zyklus kann simuliert wer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nutzer kann manuell die Lichtstärke während der Laufzeit verände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Lichtstärke reduziert sich mit der Tie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lgen blockieren einen Teil des Lichts für  tieferliegende Positionen (Transparenzwer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ährsubstrat ist nur in begrenzter Menge vorha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ird ein Substratpartikel konsumiert, wird es um so schneller wieder aufgebaut, je tiefer es im Aquarium lieg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Agenten-Senso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905120"/>
            <a:ext cx="815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Lichtsen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ubstratsen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heromonsensor ortet Lockstof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umpersensor ortet andere Agenten sowie die Aquariumbegrenz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eder Sensor zeigt in vier Richtungen und hat ein bestimmtes Sichtfeld und Reichwe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Aktionen der Agen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lle Aktionen verbrauchen oder gewinnen Energi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weg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hotosynth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ubstrataufnah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heromonaussto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eiose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Trifft ein fortpflanzungswilliger Agent auf einen anderen, findet Meiose stat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itose: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indet ein Agent keinen Partner zur sexuellen Fortpflanzung, teilt er sich selb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Neuronales Netz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put besteht aus Sensorwerten sowie dem Energie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eiterleitung von Neuron zu Neuron über gewichtete Verbind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ransformation der Signale innerhalb der Neuronen mittels Cubic S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5 Endneuronen: 4 Bewegungsrichtungen &amp; Stillst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Überkreuzung der Chromosomen bei geschlechtlicher Fortpflanz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. Chromosom: Neuronen &amp; Verbind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2. Chromosom: Gewichte der Verbind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3. Chromosom: Cubic S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06:23:22Z</dcterms:created>
  <dc:creator>frei</dc:creator>
  <dc:description/>
  <dc:language>en-US</dc:language>
  <cp:lastModifiedBy>frei</cp:lastModifiedBy>
  <dcterms:modified xsi:type="dcterms:W3CDTF">2000-07-05T07:59:37Z</dcterms:modified>
  <cp:revision>2</cp:revision>
  <dc:subject/>
  <dc:title>Programmierpraktikum II SS 2000 Projektgruppe 5</dc:title>
</cp:coreProperties>
</file>