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B8D-72FB-4344-9D89-3F08C22B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7A9-6AC3-4AD3-B18C-FBA69238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FDB-18EF-4661-AF2F-85E50AA5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0F5-4A40-4A76-AFB1-B5F49C9E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86EB-6208-42EF-8631-E440859A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447B-B0A2-4A39-B035-42A4D833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F07B-90EA-4EDE-B606-97832CED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81A1-5FE8-4804-B2CC-D504672E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13CE-5B94-4B6F-97D2-67002D31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D80F-792B-4FC2-80F6-357281F0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E893-4B54-4ABD-9D13-FAA2824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524-44CB-4B22-BEEB-9E7C22CC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B40F-099C-432A-A47E-3D201CCD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FBFD-C063-456F-91AD-95E6A052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8171-3193-4637-B61E-C5C95C0C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9346-2691-4607-92B7-6C882626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43F0-FC17-4C50-83D9-44535F1B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8AA-D75D-4184-8FB1-C066CA31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77C-4B89-475D-98C7-637799DD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3AD-DD80-4C40-89EF-FC470A70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C42-9FD3-4928-A475-7B72EE70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E61-C7CF-4B12-B1D9-A7B481B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EED-FD54-4627-B821-7E067C0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34A-09DC-4337-98F5-14DF3B86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72B8-80ED-45FD-BFB0-1F9AC16C695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7F87-CF00-44E5-A962-DBD65F34664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19051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cc00"/>
                </a:solidFill>
                <a:latin typeface="Arial Black"/>
              </a:rPr>
              <a:t>YARB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362320" y="3581280"/>
            <a:ext cx="64008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Yet Another Result Brow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Einfüh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schiedene Problem Domän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sualisierung der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pass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i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weit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tuitives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Desig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lexible Visualisier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ierbare Daten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rtbar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ynamisch erweit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ation persist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YARB Pipe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18288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Fil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4290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0292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25146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1148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2209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88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8200" y="4038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0.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8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Implementie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lesources für SN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lesources für JPEG, GIF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ndard Filter (WTA, Arith.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ndard Viewer (Line, Bar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gent Exampl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ektor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g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YARB anpasse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terfaces implement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ehlerbehand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ation speichern/l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xterne Klassen registr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18:15:24Z</dcterms:created>
  <dc:creator>Fenri</dc:creator>
  <dc:description/>
  <dc:language>en-US</dc:language>
  <cp:lastModifiedBy>Fenri</cp:lastModifiedBy>
  <dcterms:modified xsi:type="dcterms:W3CDTF">2000-07-05T08:44:13Z</dcterms:modified>
  <cp:revision>2</cp:revision>
  <dc:subject/>
  <dc:title>YARB</dc:title>
</cp:coreProperties>
</file>