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254-954E-4B80-8E17-C07D2B06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3F1-82ED-4C07-918E-0EA405C5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97D-9B31-475F-BCDF-87B87C8C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3DF-DAD4-4217-A984-36FFE419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6FBD-1E50-4520-9BC0-E43A3CB3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F7E6-CA8E-45D2-9FED-48C6AF40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A0A8-CF55-472D-8A4A-0488CC39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864C-3DE7-49CA-8552-64716772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B3B8-AF90-43F2-9B40-E7420B63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3BA4-0E0C-41F5-A320-C5EEB940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44C7-C63C-48B0-B34A-8A302CBA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656-DB57-41CB-8146-B8C2185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A9F1-7CC0-438B-86B3-44DDF04F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03AA-6A4B-4B2F-A32E-101E54E9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A692-E5BB-45F6-8197-4F2BD910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6763-91F4-41B9-8961-4AB8FF3D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0941-FF5A-4562-A301-3FCB944A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ECC-626C-476D-94E8-FC51794D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326-4FB0-4E5B-A110-E451704D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92A-CAB5-4B81-8C19-1436C841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64E-BCA2-4728-B886-98B37B49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626-2DD2-46AC-B436-5F3808C4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419-4729-4959-8AEE-E970465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3C6-4C4F-4586-B2D3-E8015879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BD32-77A9-41DD-A045-BFE520059A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E74C-F1D8-42BE-AA8E-BA5421C8DB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19051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cc00"/>
                </a:solidFill>
                <a:latin typeface="Arial Black"/>
              </a:rPr>
              <a:t>YARB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362320" y="3581280"/>
            <a:ext cx="64008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Yet Another Result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Einfüh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chiedene Problem Domän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sualisierung de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pass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uitives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Desig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lexible Visualisie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e Daten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rtbar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ynamisch 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persist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Pip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18288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4290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0292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25146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1148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209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88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8200" y="4038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8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mplementie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SN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JPEG, GIF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Filter (WTA, Arith.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Viewer (Line, Bar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gent Exampl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ektor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g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anpasse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erfaces implement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ehlerbehand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speichern/l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terne Klassen registr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8:15:24Z</dcterms:created>
  <dc:creator>Fenri</dc:creator>
  <dc:description/>
  <dc:language>en-US</dc:language>
  <cp:lastModifiedBy>Fenri</cp:lastModifiedBy>
  <dcterms:modified xsi:type="dcterms:W3CDTF">2000-07-05T08:44:13Z</dcterms:modified>
  <cp:revision>2</cp:revision>
  <dc:subject/>
  <dc:title>YARB</dc:title>
</cp:coreProperties>
</file>