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3B3-7289-4A65-A5D5-2CD06DE0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A6E-601A-409B-9E55-72C877D4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215-E2E9-4992-BE00-DBBB9500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61E-9881-4972-A696-DCFF19D2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1AE1-E4B4-4929-95C2-2DBA1173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15A5-5DEE-4559-842F-22EF82AE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085-160C-4450-8106-622C739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0388-F764-48E4-A939-D278FD5F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DE93-4559-4384-B1AF-F66CAAD1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7F0-7577-451F-8355-628820FD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8D65-12BB-45B6-B451-C867456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352-808D-48A1-BB98-25ED72F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7D9A-57FA-4229-A3AE-C289438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0DC9-E2F1-4086-A232-92BD262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510E-09F0-415A-82C7-0570CED4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FAC9-DDA4-4FB7-B067-448C0FB9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331D-CE29-4DB4-8755-32812DAE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EE4-F496-4B66-A752-48A8C923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B56-716E-43C3-A75B-DCD23E6A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EAF-6546-4D7B-B964-45C9D5A8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380-F14A-4619-B2C8-F32ADC51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AA9-9816-4281-949D-87C4240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FAA-F9D1-4487-A3EA-6228C2F2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377-4599-48A0-A673-4F8DC4FD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DC71-24F6-44FD-9CD9-17F29F9F71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D05-2F63-4202-8A0D-EE3EE3CBF4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1905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cc00"/>
                </a:solidFill>
                <a:latin typeface="Arial Black"/>
              </a:rPr>
              <a:t>YARB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362320" y="3581280"/>
            <a:ext cx="64008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Yet Another Result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Einfüh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chiedene Problem Domän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sualisierung d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pass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uitives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Desig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lexible Visualisie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e Daten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rtbar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ynamisch 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persist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Pip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18288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4290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0292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5146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1148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209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8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820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8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mplementie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SN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JPEG, GIF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Filter (WTA, Arith.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Viewer (Line, Bar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gent Examp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ktor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anpass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erfaces implement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ehlerbehand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speichern/l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terne Klassen registr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15:24Z</dcterms:created>
  <dc:creator>Fenri</dc:creator>
  <dc:description/>
  <dc:language>en-US</dc:language>
  <cp:lastModifiedBy>Fenri</cp:lastModifiedBy>
  <dcterms:modified xsi:type="dcterms:W3CDTF">2000-07-05T08:44:13Z</dcterms:modified>
  <cp:revision>2</cp:revision>
  <dc:subject/>
  <dc:title>YARB</dc:title>
</cp:coreProperties>
</file>