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67C-B74E-4AFE-A55C-D41467E2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3EF-A5E1-4362-9BDA-176B74B0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B98-A830-454B-9F00-248A823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827-4B9A-4FFD-B0A7-FC490960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E9D6-912A-4F01-93DC-303E0596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30AE-DD0D-40FE-B670-84D8828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0260-B18A-42DF-A682-5E27360B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75F0-7BFE-44DC-980E-708FAFF4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242-13E9-4316-BA61-093537A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221-4381-4D4A-8E4E-8F035D2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0C4-212B-4663-881A-F960CAD1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1C5-E04D-4D4B-AF2C-97E8446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DA9-F9FF-40BA-A7E5-7550DD29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5C69-1BEC-4A6D-894C-4706EB3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C38A-AE0F-4416-86D0-80E6A63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25E-CA90-45E8-8D9F-0EA93D6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5F2E-7A6F-4329-BFAC-E606455A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2A2-5F0D-4890-B6DB-3BCE5E16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F1E-F676-409F-9733-8506510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211-BC13-4432-9B60-EBCC699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A0B-B25B-4560-AA46-68FA1840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687-E283-4CE6-BDCF-4E30F0A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C0B-9ED3-4B51-87A7-B109635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9D5-7576-4CE8-AC71-4A0247C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3F6-07E8-4691-B582-BA130B048B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EE6-F9A3-4BF9-BE10-18E318CE79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cc00"/>
                </a:solidFill>
                <a:latin typeface="Arial Black"/>
              </a:rPr>
              <a:t>YARB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362320" y="3581280"/>
            <a:ext cx="640080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Yet Another Result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Einfüh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erschiedene Problem Domän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isualisierung d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pass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uitives 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Desig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lexible Visualis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ierbare Datentrans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artbar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ynamisch erweiter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persist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Pipeli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18288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4290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029200"/>
            <a:ext cx="2133720" cy="68580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25146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1148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882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8200" y="4038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882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mplementi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SN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ilesources für JPEG, GIF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Filter (WTA, Arith.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ndard Viewer (Line, Bar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gent Exampl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ektor Fil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g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YARB anpasse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nterfaces implement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ehlerbehandl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nfiguration speichern/l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terne Klassen registr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8:15:24Z</dcterms:created>
  <dc:creator>Fenri</dc:creator>
  <dc:description/>
  <dc:language>en-US</dc:language>
  <cp:lastModifiedBy>Fenri</cp:lastModifiedBy>
  <dcterms:modified xsi:type="dcterms:W3CDTF">2000-07-05T08:44:13Z</dcterms:modified>
  <cp:revision>2</cp:revision>
  <dc:subject/>
  <dc:title>YARB</dc:title>
</cp:coreProperties>
</file>