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A1C5-D106-4660-ACEE-47B6E004D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186B-2DCB-465A-BEE2-4A86042AA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C09C-E5EB-4D7E-B776-6158D7325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565D-1CA8-4151-98DA-3BB5D3651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B370A-36E5-48C1-81EE-C4D862301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55CED-E5B8-4A25-ADFC-A15D92AD3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E134A-AD75-41AF-85BA-3E63230C0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E9C93-914C-47E7-AEDA-C193295D6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67DB5-9C28-4394-B4BB-652B04D9C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FD000-0B6F-45A5-AEFE-1959FAA5B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CEB9B-E309-4870-8B40-DA2A7447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8200-9D62-4B89-AE80-A3E876E7E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27D30-864A-4845-B66A-B216C2FC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C26D4-C86D-4B66-82BB-4A352AC4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9DA91-5E24-4C4B-B1E5-BCB2D8E19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9A53C-9D00-43C0-9843-654CBD1C3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75102-BF9A-4DDF-A5BC-E1763E89A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7F9B-A79F-48F3-AF55-0E714912E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11BC-36A5-413C-A1EE-9499FF1C8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AC10-3CE6-4B9E-BA19-BFBAECE98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8E6F-E347-4098-A222-7782FB9E6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477D-2C89-45E7-AE0A-6FB699F2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CDBC-3518-4B2F-AFCB-F366875B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6D2E-C732-4CE4-BBE4-3AF33F65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5D80B-DF8B-4EBB-B3C0-531704C7CA1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C25C2-6536-455A-9914-0BFF66EFA3F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52120" y="1905120"/>
            <a:ext cx="4496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600" spc="-1" strike="noStrike">
                <a:solidFill>
                  <a:srgbClr val="ffcc00"/>
                </a:solidFill>
                <a:latin typeface="Arial Black"/>
              </a:rPr>
              <a:t>YARB</a:t>
            </a:r>
            <a:endParaRPr b="0" lang="en-US" sz="6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2362320" y="3581280"/>
            <a:ext cx="640080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Yet Another Result Brows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Arial Black"/>
              </a:rPr>
              <a:t>Einführung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Verschiedene Problem Domäne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Visualisierung der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npassb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Konfigurierb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rweiterb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Intuitives GU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Arial Black"/>
              </a:rPr>
              <a:t>Desig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Flexible Visualisieru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Konfigurierbare Datentrans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Wartbarke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ynamisch erweiterb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Konfiguration persist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Arial Black"/>
              </a:rPr>
              <a:t>YARB Pipelin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"/>
          <p:cNvSpPr/>
          <p:nvPr/>
        </p:nvSpPr>
        <p:spPr>
          <a:xfrm>
            <a:off x="3200400" y="1828800"/>
            <a:ext cx="2133720" cy="685800"/>
          </a:xfrm>
          <a:prstGeom prst="rect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Times New Roman"/>
              </a:rPr>
              <a:t>File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3429000"/>
            <a:ext cx="2133720" cy="685800"/>
          </a:xfrm>
          <a:prstGeom prst="rect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Times New Roman"/>
              </a:rPr>
              <a:t>Fil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029200"/>
            <a:ext cx="2133720" cy="685800"/>
          </a:xfrm>
          <a:prstGeom prst="rect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67080" y="2514600"/>
            <a:ext cx="0" cy="9144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114800"/>
            <a:ext cx="0" cy="9144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715000" y="22096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488200" y="236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88200" y="40384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0.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88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Arial Black"/>
              </a:rPr>
              <a:t>Implementierung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Filesources für SN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Filesources für JPEG, GIF, 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tandard Filter (WTA, Arith., 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tandard Viewer (Line, Bar, 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gent Example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Vektor Fil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gent Vie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Arial Black"/>
              </a:rPr>
              <a:t>YARB anpasse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Interfaces implementi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Fehlerbehandl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Konfiguration speichern/la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xterne Klassen registri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4T18:15:24Z</dcterms:created>
  <dc:creator>Fenri</dc:creator>
  <dc:description/>
  <dc:language>en-US</dc:language>
  <cp:lastModifiedBy>Fenri</cp:lastModifiedBy>
  <dcterms:modified xsi:type="dcterms:W3CDTF">2000-07-05T08:44:13Z</dcterms:modified>
  <cp:revision>2</cp:revision>
  <dc:subject/>
  <dc:title>YARB</dc:title>
</cp:coreProperties>
</file>