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FB0A-C04F-4BCD-B35D-FAEA5E2E89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lassisches Feed Forward Ne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11 Eingäng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nk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uelle und Zielposi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us -1, +1 für die Richtung der Beweg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2 Hiddenlayer mit jeweils 3 Hiddenkn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4 Ausgänge für die Winkeländer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Gewichtungen bestimmen Verh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GA stellt sie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ca. 200 Gewichtungen werden angepaß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Individuum = ein 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klassisches Feed Forward Ne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11 Eingäng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nke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Quelle und Zielposi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us -1, +1 für die Richtung der Beweg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2 Hiddenlayer mit jeweils 3 Hiddenkno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4 Ausgänge für die Winkeländer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Gewichtungen bestimmen Verhal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GA stellt sie 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ca. 200 Gewichtungen werden angepaß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Individuum = ein 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: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1:=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:=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ILE S&gt;0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F Treffer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:=    F + S*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1:=  S1 -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:=   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( S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D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Selek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zufällige Auswahl zweier Individuen a,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suchen des schlechtesten Individuum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c ersetzen durch besseres von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wie oft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Populationsgröße p - Matingpoolgröße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i uns 100 - 10 = 90, dann habe ich 90 schlechte Individuen elimin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ek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n = Zeilenanzahl, damit ungefähr ganze Zeilen ausgetausch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Mutationrat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Bookshelf Symbol 4"/>
                <a:ea typeface="Bookshelf Symbol 4"/>
              </a:rPr>
              <a:t>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kippt Bit 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Ausgleich der Wertig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 Vorzeichen nach Absolutwert inver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14600" y="6781680"/>
                <a:ext cx="53352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tneßbe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ross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erst One-Point-Cross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nn n-Point-Crossover, wobei n zufällig 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ition der Crossover-Points ist zufäll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ue Versuche mit n ist k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 =  Vielfaches  | Teiler |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gleich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Anzahl Zeilen (= Spalten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rkenntn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wesentlich für den Lernerfolg  (</a:t>
            </a:r>
            <a:r>
              <a:rPr b="0" lang="de-DE" sz="1200" spc="-1" strike="noStrike">
                <a:solidFill>
                  <a:srgbClr val="000000"/>
                </a:solidFill>
                <a:latin typeface="Bookshelf Symbol 4"/>
                <a:ea typeface="Bookshelf Symbol 4"/>
              </a:rPr>
              <a:t>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durchschnittliche Fitneß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ele Experimente sind notwendig, oder selbständige Anpassu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ttelweg finden, für optimale Streu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Zusammenfas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erst sollte Fitnessberechnung angepaßt werd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nn Crossover (min. Streu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nn Mutation vorsichtig erhöhen (mittl. Streu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FB5-B9DC-4DCB-BD08-55CD181F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E9E-9214-413A-94F3-3D69714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D45-C4E1-4672-BBF6-26352B87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34E-2BA4-47D4-9A4C-A61D746B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3CF-2322-4714-975B-D12FDFC9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8AA7-6E1A-45E2-97D7-EDE3E7A9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7B5-A23E-4BC6-8514-0B3372DA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9031-3704-4BDA-89CE-8E36138D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9AB1-359B-4420-9DDB-9EDE065B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F758-D93E-4669-98A5-FDBCC17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4674-C597-4CEE-8D1E-2375ABED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102-32D0-4B57-93A6-D0D2B9CF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EF67-F3AE-436A-A836-06BEFE90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BA9-A81D-4570-B835-B02F3D5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0D3B-9EA5-48C0-A570-5FF55B0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8D9-199D-4CDD-808A-8E75F546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8D14-C770-4497-8997-47B56B6E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2A4-3005-4D3A-9ED7-3645553E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18F-CB17-478D-ACD6-1840C57E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190-9F91-4962-AF97-6E1842FD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359-197A-47D7-86AF-4C727C6C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582-FA55-451A-BFE1-79376E3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B1F-4834-4779-BCD1-98C078C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1B6-6242-4C07-88AB-CE2A85D2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C350-19C1-4241-80D6-EC51E5006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98E-F8C3-474E-B042-6329B118D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NN - Roboterar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Rainer Tru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Ferdinand Sch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Christian Spielber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ufgabenstell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in Roboterarm soll ein Objekt bew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teuerung durch Künstliches Neuronales Net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Shot_002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486400" cy="3857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raining durch Genetischen Algorithm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nsorik und Motorik als Schnittstelle zum 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Artificial Neural Net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klassisches Feed Forward Ne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ingangslayer entspricht der Sensor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iddenlayer sind frei wähl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usgangslayer entspricht der Motor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wichtungen bestimmen gesamtes Verhal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Genetischer Algorithmus</a:t>
            </a:r>
            <a:br>
              <a:rPr sz="4400"/>
            </a:b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Fitneßberechnu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s Individuum (das ANN) bekommt Zeit, in der es zeigen soll, was es kan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eignisse die die Fitneß beeinfluss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ositive Ereigni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Treffer :=  (Quelle = Ziel)  </a:t>
            </a:r>
            <a:r>
              <a:rPr b="0" lang="de-DE" sz="1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</a:t>
            </a: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  Fitneß erhöhen, neue Z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umso schneller am Ziel, desto bes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egative Ereigni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im Boden herumfahren := (Quelle &gt;Bod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rechnung für verschiedene Podesthöhen  </a:t>
            </a:r>
            <a:r>
              <a:rPr b="0" lang="de-DE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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imm Durchschnitt, Fitneß nicht eindeut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kenntnis: nicht zu viel in die Fitneßfunktion packen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Times New Roman"/>
              </a:rPr>
              <a:t>Selektion, Rekombination, Mutatio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elek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Rekomb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-Pointcrossover mit n = Zeilenanzah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2819520"/>
            <a:ext cx="7696080" cy="3886200"/>
            <a:chOff x="685800" y="2819520"/>
            <a:chExt cx="7696080" cy="3886200"/>
          </a:xfrm>
        </p:grpSpPr>
        <p:graphicFrame>
          <p:nvGraphicFramePr>
            <p:cNvPr id="121" name=""/>
            <p:cNvGraphicFramePr/>
            <p:nvPr/>
          </p:nvGraphicFramePr>
          <p:xfrm>
            <a:off x="1219320" y="4495680"/>
            <a:ext cx="6858000" cy="5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4495680"/>
                      <a:ext cx="685800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685800" y="2819520"/>
              <a:ext cx="769608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Mu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Adjazenzmatrix wird mutie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Gen := ein Integerwert in der Matri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Ausgleich der ungleichen Wertigkeit der B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IF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TH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Times New Roman"/>
                </a:rPr>
                <a:t>kippe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END I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1752480" y="5105520"/>
                  <a:ext cx="1981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0,1</m:t>
                      </m:r>
                      <m:r>
                        <m:t xml:space="preserve">[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p</m:t>
                      </m:r>
                      <m:r>
                        <m:t xml:space="preserve"> </m:t>
                      </m:r>
                      <m:r>
                        <m:t xml:space="preserve">≥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Times New Roman"/>
              </a:rPr>
              <a:t>Ergebnis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itneßberech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ichtungsbewertung nach jeder Mikrobeweg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esser: zählen der Treffer in einer bestimmten Zeitspan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nicht zu viele Sachen bewer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oss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ehr wesentlich für den Lernerfolg  (</a:t>
            </a:r>
            <a:r>
              <a:rPr b="0" lang="de-DE" sz="2000" spc="-1" strike="noStrike">
                <a:solidFill>
                  <a:srgbClr val="ffffff"/>
                </a:solidFill>
                <a:latin typeface="Bookshelf Symbol 4"/>
                <a:ea typeface="Bookshelf Symbol 4"/>
              </a:rPr>
              <a:t>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avrg. Fitn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große Streuungsunterschie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vrg. und max. Fitness sollten möglichst zusammen li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u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ohe Mutationsrate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große Streu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hohe Mutationsrate </a:t>
            </a:r>
            <a:r>
              <a:rPr b="0" lang="de-DE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 kleine Streu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1T18:31:39Z</dcterms:created>
  <dc:creator>Christian Spielberger</dc:creator>
  <dc:description/>
  <dc:language>en-US</dc:language>
  <cp:lastModifiedBy>Christian Spielberger</cp:lastModifiedBy>
  <cp:lastPrinted>1999-07-01T11:49:43Z</cp:lastPrinted>
  <dcterms:modified xsi:type="dcterms:W3CDTF">1999-07-19T20:47:38Z</dcterms:modified>
  <cp:revision>10</cp:revision>
  <dc:subject/>
  <dc:title>ANN - Simulator</dc:title>
</cp:coreProperties>
</file>