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B24-38A5-45C8-BDDA-D32D82F1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43B-8014-4F23-A38B-DA7AB840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BC4-93C6-4120-B903-685A3906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3ED-D579-44C9-A5A0-BA7C7957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9407-0A1B-43E7-96AB-F86B29D8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4C9-10EE-4FC8-8535-412E35E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5EE-25A7-4584-B236-27401F5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E26-9144-492D-B261-B1A6DE9A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C1AB-1F81-44B1-8529-E5650452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123-D4F4-4F6D-931A-3AED6AD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9C2-6E76-4CFE-9763-9691DC1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B4D-05A7-45F2-9DF2-CB5E1576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C82-7F13-4506-A649-9658BF7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6121-A681-453F-9C10-0AA6F10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19C7-CBA9-4D05-B2FA-34B4432F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6CFA-ABDB-40F4-9F8A-58583EEA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296B-748E-4C2A-BE3C-7EF4DD44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4B1-4F7A-4E22-8D57-A7DC7F8B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9BF-76F1-4DBD-9D48-85435B7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D7C-76D2-43D8-8B82-ED3B1E3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48C-319C-4FA8-82BA-993719F4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DA9-C9E4-466A-AD5F-73D5BEE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E58-5DA8-4883-B736-8DBAD83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548-864B-478F-8856-025FE57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A11-685A-46CE-93D0-4552B1E58E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640-9AC2-4873-A274-168DE1D3E97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ANN - Simula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Rainer Trumm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Ferdinand Scho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Christian Spielber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Adjazenzmatrix wird muti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Gen := ein Integerwert in der Matri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Mutationrate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Bookshelf Symbol 4"/>
                <a:ea typeface="Bookshelf Symbol 4"/>
              </a:rPr>
              <a:t>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kippt Bit 0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Ausgleich der ungleichen Wertigkeit der B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IF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kippe B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06640" y="2743200"/>
                <a:ext cx="103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838080" y="3886200"/>
          <a:ext cx="7726320" cy="63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86200"/>
                    <a:ext cx="77263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676520" y="4952880"/>
                <a:ext cx="2396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ANN-Simula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Aufgabenstel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Künstliches Neuronales Net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Genetischer Algorithm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Vorführ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Aufgabenstellu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Steuerung eines Roboterar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Transportieren einer Eisenkug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Shot_002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486400" cy="3857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Sensor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Motor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Artificial Neural Net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Eingangslayer entspricht der Sensor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Hiddenlayer sind frei wählb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Ausgangslayer entspricht der Motor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Verbindunge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keine Rückkopplung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zwischen Layern vollständig verbund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dargestellt durch Adjazenzmatrix wie bei einem gerichteten, bewerteten Graph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Gewichtungen bestimmen gesamtes Verhalt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AN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Genetischer Algorithm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Gewichtungen werden durch GA eingestel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Ein Individuum entspricht hier einem AN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ca. 200 Gewichtungen werden angepaß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Fitneßberechnu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Variante 1: Richtungsbewertung nach jeder Mikrobewegu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Variante 2: zählen der Treffer in einer bestimmten Zeitspan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Selek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Tournamentselek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Rekombination (Crossov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Mu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Fitneßberechnu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Das Individuum (das ANN) bekommt Zeit, in der es zeigen soll, was es kan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Ereignisse die die Fitneß beeinfluss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positive Ereignis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Treffer :=  (Quelle = Ziel)  </a:t>
            </a:r>
            <a:r>
              <a:rPr b="0" lang="de-DE" sz="20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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 Fitneß erhöhen, neue Ze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umso schneller am Ziel, desto bess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negative Ereignis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im Boden herumfahren := (Quelle &gt;Bode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Berechnung für verschiedene Podesthöhen  </a:t>
            </a:r>
            <a:r>
              <a:rPr b="0" lang="de-DE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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nimm Durchschnitt, Fitneß nicht eindeuti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Erkenntnis: nicht zu viel in die Fitneßfunktion packen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Selek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Tourna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zufällige Auswahl zweier Individuen a,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suchen des schlechtesten Individuums 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c := besseres von beiden (a, b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wie oft 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(Populationsgröße - Matingpoolgröß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bei uns 100 - 10 = 90, dann habe ich 90 schlechte Individuen eliminie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Rekombin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Teile der Adjazenzmatrizen zweier Individuuen werden ausgetausc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zuerst One-Point-Crosso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dann n-Point-Crossover, wobei n zufällig i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Position der Crossover-Points ist zufälli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neue Versuche mit n ist k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n =  Vielfaches  | Teiler | </a:t>
            </a:r>
            <a:r>
              <a:rPr b="1" lang="de-DE" sz="2000" spc="-1" strike="noStrike">
                <a:solidFill>
                  <a:srgbClr val="ffffcc"/>
                </a:solidFill>
                <a:latin typeface="Times New Roman"/>
              </a:rPr>
              <a:t>gleich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der Anzahl Zeilen (= Spalten)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Erkenntni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sehr wesentlich für den Lernerfolg  (</a:t>
            </a:r>
            <a:r>
              <a:rPr b="0" lang="de-DE" sz="2000" spc="-1" strike="noStrike">
                <a:solidFill>
                  <a:srgbClr val="ffffcc"/>
                </a:solidFill>
                <a:latin typeface="Bookshelf Symbol 4"/>
                <a:ea typeface="Bookshelf Symbol 4"/>
              </a:rPr>
              <a:t>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durchschnittliche Fitneß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viele Experimente sind notwendig, oder selbständige Anpassung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1T18:31:39Z</dcterms:created>
  <dc:creator>Christian Spielberger</dc:creator>
  <dc:description/>
  <dc:language>en-US</dc:language>
  <cp:lastModifiedBy>Christian Spielberger</cp:lastModifiedBy>
  <dcterms:modified xsi:type="dcterms:W3CDTF">1999-06-25T11:37:25Z</dcterms:modified>
  <cp:revision>6</cp:revision>
  <dc:subject/>
  <dc:title>ANN - Simulator</dc:title>
</cp:coreProperties>
</file>