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5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1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E18E-ADE9-4463-A306-BFB43BC01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142D-90DE-441E-9283-E7E0AE7FC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1A5F-98A1-4FE6-8C0F-7354E2463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BBB1-3704-403A-8489-28B9172C7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CEDD1-8EFA-4BD0-8CF4-B4E1C2B36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3FE26-1A3A-4273-92EB-70FBE8F86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68BEA-3519-48DD-8E8E-C8BF3567C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4AF1C-C38D-47CC-86C3-8BED8A8B9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03446-4853-478D-AC02-A153C92A4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FCFC0-4DDB-4A30-A0C7-0BD4FE501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973A6-381E-431D-AFC8-EDB40F068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806C-2805-4090-8FEF-9A0E62D1E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964B4-34AB-45E9-97F4-864CB8E28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27C17-E55D-450C-A73E-9B768DAEE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8BEEB-AFF2-4801-89A8-0B56BB1A9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AEC43-4FDE-47B5-8E5C-47D62B9CE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5EA10-D84F-4DDF-8B84-DD50CF15A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37A3-4DCD-4521-8655-AF35BEA40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8672-BA46-4390-A513-684880802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4128-AB5A-4357-A29F-9D9D50DC7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B3A1-7E87-44B9-83A8-FF6BD98DF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359B-B808-4198-856D-B94687B55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3502-83C3-4D40-BE5F-B0F978556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7357-1C77-4C3D-8C7B-4D40F4887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56E87-A5E5-41AE-BABC-389CBB4CB8D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EC212-F45D-4EED-B917-2E6A2B63A40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632448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i="1" lang="en-US" sz="4400" spc="-1" strike="noStrike" u="sng">
                <a:solidFill>
                  <a:srgbClr val="ffcc66"/>
                </a:solidFill>
                <a:uFillTx/>
                <a:latin typeface="Times New Roman"/>
              </a:rPr>
              <a:t>Lazy Parallelization</a:t>
            </a:r>
            <a:r>
              <a:rPr b="0" i="1" lang="en-US" sz="3200" spc="-1" strike="noStrike">
                <a:solidFill>
                  <a:srgbClr val="ffcc66"/>
                </a:solidFill>
                <a:latin typeface="Times New Roman"/>
              </a:rPr>
              <a:t>                                  </a:t>
            </a:r>
            <a:br>
              <a:rPr sz="3200"/>
            </a:br>
            <a:br>
              <a:rPr sz="2000"/>
            </a:br>
            <a:r>
              <a:rPr b="0" i="1" lang="en-US" sz="2800" spc="-1" strike="noStrike">
                <a:solidFill>
                  <a:srgbClr val="ffcc66"/>
                </a:solidFill>
                <a:latin typeface="Times New Roman"/>
              </a:rPr>
              <a:t>A Finite State Machine Based Optimization Approach for Data Parallel Image Processing Applications</a:t>
            </a:r>
            <a:endParaRPr b="0" i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0" y="38098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rank Seinstra        Dennis Koelm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Intelligent Sensory Information System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Faculty of Science, University of Amsterdam, The Netherland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4" name="Isis" descr=""/>
          <p:cNvPicPr/>
          <p:nvPr/>
        </p:nvPicPr>
        <p:blipFill>
          <a:blip r:embed="rId1"/>
          <a:stretch/>
        </p:blipFill>
        <p:spPr>
          <a:xfrm>
            <a:off x="4267080" y="5943600"/>
            <a:ext cx="1295640" cy="681120"/>
          </a:xfrm>
          <a:prstGeom prst="rect">
            <a:avLst/>
          </a:prstGeom>
          <a:ln w="0">
            <a:noFill/>
          </a:ln>
        </p:spPr>
      </p:pic>
      <p:pic>
        <p:nvPicPr>
          <p:cNvPr id="95" name="uva" descr=""/>
          <p:cNvPicPr/>
          <p:nvPr/>
        </p:nvPicPr>
        <p:blipFill>
          <a:blip r:embed="rId2"/>
          <a:stretch/>
        </p:blipFill>
        <p:spPr>
          <a:xfrm>
            <a:off x="3276720" y="594360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Lazy Parallelization (2)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2209680"/>
            <a:ext cx="8610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tate transition functions allow correct conversion of legal sequential code to legal parallel code at all tim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124080"/>
            <a:ext cx="83822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ice features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equires no a priori knowledge of loops and branch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an be done on the fly at run-time (cheap!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ut..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hoosing cheapest state transition function does not always guarantee time-optimal program (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although usually quite good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ime-optimality by compile-time construction of ‘Application State Transition Graph’ (ASTG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52280" y="457200"/>
            <a:ext cx="8839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Example: Curvilinear Structure Detectio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4343400"/>
            <a:ext cx="8229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pply anisotropic Gaussian filter bank to input imag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aximum response when filter tuned to line direc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ere 2 different implementation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rotating filters applied to fixed input image, either separable (UV) or non-separable (2D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epending on parameter space: few minutes - several hour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04" name="spiral2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205" name="spiralres" descr=""/>
          <p:cNvPicPr/>
          <p:nvPr/>
        </p:nvPicPr>
        <p:blipFill>
          <a:blip r:embed="rId2"/>
          <a:stretch/>
        </p:blipFill>
        <p:spPr>
          <a:xfrm>
            <a:off x="2438280" y="23623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206" name="celeg" descr=""/>
          <p:cNvPicPr/>
          <p:nvPr/>
        </p:nvPicPr>
        <p:blipFill>
          <a:blip r:embed="rId3"/>
          <a:stretch/>
        </p:blipFill>
        <p:spPr>
          <a:xfrm>
            <a:off x="5029200" y="13716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207" name="celegres4" descr=""/>
          <p:cNvPicPr/>
          <p:nvPr/>
        </p:nvPicPr>
        <p:blipFill>
          <a:blip r:embed="rId4"/>
          <a:stretch/>
        </p:blipFill>
        <p:spPr>
          <a:xfrm>
            <a:off x="6248520" y="236232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143000" y="1905120"/>
            <a:ext cx="6781680" cy="327636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533520"/>
            <a:ext cx="9144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Implementation </a:t>
            </a: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cc66"/>
                </a:solidFill>
                <a:latin typeface="Times New Roman"/>
              </a:rPr>
              <a:t>sequential=parallel</a:t>
            </a: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066680" y="1828800"/>
            <a:ext cx="6782040" cy="3276720"/>
          </a:xfrm>
          <a:prstGeom prst="rect">
            <a:avLst/>
          </a:prstGeom>
          <a:solidFill>
            <a:srgbClr val="9933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143000" y="1905120"/>
            <a:ext cx="6629400" cy="307404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66"/>
                </a:solidFill>
                <a:latin typeface="Times New Roman"/>
              </a:rPr>
              <a:t>for all orientations theta {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66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ffcc66"/>
                </a:solidFill>
                <a:latin typeface="Times New Roman"/>
              </a:rPr>
              <a:t>for all smoothing scales sy {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66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cc66"/>
                </a:solidFill>
                <a:latin typeface="Times New Roman"/>
              </a:rPr>
              <a:t>for all differentiation scales sx {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66"/>
                </a:solidFill>
                <a:latin typeface="Times New Roman"/>
              </a:rPr>
              <a:t>                  </a:t>
            </a: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genConvolution </a:t>
            </a:r>
            <a:r>
              <a:rPr b="0" lang="en-US" sz="1600" spc="-1" strike="noStrike">
                <a:solidFill>
                  <a:srgbClr val="ffcc66"/>
                </a:solidFill>
                <a:latin typeface="Times New Roman"/>
              </a:rPr>
              <a:t>( filtIm1,  mirrorBorder,  “</a:t>
            </a:r>
            <a:r>
              <a:rPr b="1" i="1" lang="en-US" sz="1600" spc="-1" strike="noStrike">
                <a:solidFill>
                  <a:srgbClr val="ffcc66"/>
                </a:solidFill>
                <a:latin typeface="Times New Roman"/>
              </a:rPr>
              <a:t>func</a:t>
            </a:r>
            <a:r>
              <a:rPr b="0" lang="en-US" sz="1600" spc="-1" strike="noStrike">
                <a:solidFill>
                  <a:srgbClr val="ffcc66"/>
                </a:solidFill>
                <a:latin typeface="Times New Roman"/>
              </a:rPr>
              <a:t>”, sx,  sy,  2,  0 );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                  </a:t>
            </a: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genConvolution </a:t>
            </a:r>
            <a:r>
              <a:rPr b="0" lang="en-US" sz="1600" spc="-1" strike="noStrike">
                <a:solidFill>
                  <a:srgbClr val="ffcc66"/>
                </a:solidFill>
                <a:latin typeface="Times New Roman"/>
              </a:rPr>
              <a:t>( filtIm2,  mirrorBorder,  “</a:t>
            </a:r>
            <a:r>
              <a:rPr b="1" i="1" lang="en-US" sz="1600" spc="-1" strike="noStrike">
                <a:solidFill>
                  <a:srgbClr val="ffcc66"/>
                </a:solidFill>
                <a:latin typeface="Times New Roman"/>
              </a:rPr>
              <a:t>func</a:t>
            </a:r>
            <a:r>
              <a:rPr b="0" lang="en-US" sz="1600" spc="-1" strike="noStrike">
                <a:solidFill>
                  <a:srgbClr val="ffcc66"/>
                </a:solidFill>
                <a:latin typeface="Times New Roman"/>
              </a:rPr>
              <a:t>”, sx,  sy,  0,  0 );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                  </a:t>
            </a: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binaryPixOpI </a:t>
            </a:r>
            <a:r>
              <a:rPr b="0" lang="en-US" sz="1600" spc="-1" strike="noStrike">
                <a:solidFill>
                  <a:srgbClr val="ffcc66"/>
                </a:solidFill>
                <a:latin typeface="Times New Roman"/>
              </a:rPr>
              <a:t>( filtIm1,  filtIm2,  “negdiv” );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                  </a:t>
            </a: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binaryPixOpC </a:t>
            </a:r>
            <a:r>
              <a:rPr b="0" lang="en-US" sz="1600" spc="-1" strike="noStrike">
                <a:solidFill>
                  <a:srgbClr val="ffcc66"/>
                </a:solidFill>
                <a:latin typeface="Times New Roman"/>
              </a:rPr>
              <a:t>( filtIm1,  sx*sy,  “mul” );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66"/>
                </a:solidFill>
                <a:latin typeface="Times New Roman"/>
              </a:rPr>
              <a:t>                  </a:t>
            </a: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binaryPixOpI </a:t>
            </a:r>
            <a:r>
              <a:rPr b="0" lang="en-US" sz="1600" spc="-1" strike="noStrike">
                <a:solidFill>
                  <a:srgbClr val="ffcc66"/>
                </a:solidFill>
                <a:latin typeface="Times New Roman"/>
              </a:rPr>
              <a:t>( resltIm,  filtIm1,  “max” );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66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cc66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66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ffcc66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66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9480" y="5486400"/>
            <a:ext cx="6477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eferred to as: </a:t>
            </a: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Conv2D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nd</a:t>
            </a: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 ConvUV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lgorithms 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cc"/>
                </a:solidFill>
                <a:latin typeface="Times New Roman"/>
              </a:rPr>
              <a:t> “func”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is either “gauss2D” or “gaussUV” 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" name=""/>
          <p:cNvGraphicFramePr/>
          <p:nvPr/>
        </p:nvGraphicFramePr>
        <p:xfrm>
          <a:off x="5334120" y="2057400"/>
          <a:ext cx="3581280" cy="215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2057400"/>
                    <a:ext cx="3581280" cy="21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Measurements on VU-DAS-2 (1)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358128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512x512 input image;  36 orientations;                      8 anisotropic filter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457200" y="3243240"/>
          <a:ext cx="5410080" cy="33861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243240"/>
                    <a:ext cx="5410080" cy="33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"/>
          <p:cNvSpPr/>
          <p:nvPr/>
        </p:nvSpPr>
        <p:spPr>
          <a:xfrm>
            <a:off x="6019920" y="4495680"/>
            <a:ext cx="28954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Times New Roman"/>
              </a:rPr>
              <a:t>Architecture: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64 1-Ghz dual Pentium III node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(used 1 CPU per node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1 Gbyte RAM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Myrinet 2000 network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RedHat Linux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0" name=""/>
          <p:cNvGraphicFramePr/>
          <p:nvPr/>
        </p:nvGraphicFramePr>
        <p:xfrm>
          <a:off x="5334120" y="2057400"/>
          <a:ext cx="3581280" cy="215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2057400"/>
                    <a:ext cx="3581280" cy="21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457200" y="3276720"/>
          <a:ext cx="5445000" cy="33526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276720"/>
                    <a:ext cx="544500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Measurements on VU-DAS-2 (2)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358128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512x512 input image;  36 orientations;                      8 anisotropic filter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019920" y="4495680"/>
            <a:ext cx="28954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Times New Roman"/>
              </a:rPr>
              <a:t>Architecture: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64 1-Ghz dual Pentium III node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(used 2 CPUs per node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1 Gbyte RAM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Myrinet 2000 network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RedHat Linux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onclusion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2285640"/>
            <a:ext cx="83818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azy parallelization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generates legal/correct/efficient parallel code for any sequential program implemented using the ParHorus software librar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legant approach; can be performed on the fly at run-time without knowledge of application’s branching behavi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equires very little runtime overhe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ot always time-optimal; full optimization can be achieved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(at compile-time only)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using ASTG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(not presented here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85800" y="6094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For more information..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0880" y="2057400"/>
            <a:ext cx="85345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orus: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http://www.science.uva.nl/~horus/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arHorus: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http://www.science.uva.nl/~fjseins/ParHorusCode/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elected Papers: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http://www.science.uva.nl/~fjseins/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User Transparency: A Fully Sequential Programming Model for Efficient Data Parallel Image Processing                                                        </a:t>
            </a:r>
            <a:r>
              <a:rPr b="0" i="1" lang="en-US" sz="1800" spc="-1" strike="noStrike">
                <a:solidFill>
                  <a:srgbClr val="ffcc66"/>
                </a:solidFill>
                <a:latin typeface="Times New Roman"/>
              </a:rPr>
              <a:t>Concurrency and Computation: Practice &amp; Experience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, in press, 2003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Incorporating Memory Layout in the Modeling of Message Passing Programs </a:t>
            </a:r>
            <a:r>
              <a:rPr b="0" i="1" lang="en-US" sz="1800" spc="-1" strike="noStrike">
                <a:solidFill>
                  <a:srgbClr val="ffcc66"/>
                </a:solidFill>
                <a:latin typeface="Times New Roman"/>
              </a:rPr>
              <a:t>Journal of Systems Architecture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, in press, 2003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A Software Architecture for User Transparent Parallel Image Processing       </a:t>
            </a:r>
            <a:r>
              <a:rPr b="0" i="1" lang="en-US" sz="1800" spc="-1" strike="noStrike">
                <a:solidFill>
                  <a:srgbClr val="ffcc66"/>
                </a:solidFill>
                <a:latin typeface="Times New Roman"/>
              </a:rPr>
              <a:t>Parallel Computing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, 18(7-8), August 2002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-3PC: A Point-to-Point Communication Model for Automatic and Optimal Decomposition of Regular Domain Problems                                            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0" i="1" lang="en-US" sz="1800" spc="-1" strike="noStrike">
                <a:solidFill>
                  <a:srgbClr val="ffcc66"/>
                </a:solidFill>
                <a:latin typeface="Times New Roman"/>
              </a:rPr>
              <a:t>IEEE Transactions on Parallel and Distributed Systems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, 13(7), July 2002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685800" y="6094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The End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ParHorus: Initial Observation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3657240"/>
            <a:ext cx="838188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imary cause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o parallelization tool exists that matches the entrance level of non-expert parallel programme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olution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amiliar’ tool provided by computing communi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220968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blem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searchers in image processing do not benefit from high performance computing on a daily basi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Existing Parallelization Tool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90720" y="2057400"/>
            <a:ext cx="0" cy="4191120"/>
          </a:xfrm>
          <a:prstGeom prst="line">
            <a:avLst/>
          </a:prstGeom>
          <a:ln w="316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90720" y="6248520"/>
            <a:ext cx="7772400" cy="0"/>
          </a:xfrm>
          <a:prstGeom prst="line">
            <a:avLst/>
          </a:prstGeom>
          <a:ln w="316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1320" y="2666880"/>
            <a:ext cx="851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Effor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33520" y="2057400"/>
            <a:ext cx="0" cy="533520"/>
          </a:xfrm>
          <a:prstGeom prst="line">
            <a:avLst/>
          </a:prstGeom>
          <a:ln w="1908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705720" y="6248160"/>
            <a:ext cx="1392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Efficienc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83520" y="5485320"/>
            <a:ext cx="1998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Times New Roman"/>
              </a:rPr>
              <a:t>Automatic Parallelizin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Times New Roman"/>
              </a:rPr>
              <a:t>Compiler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62320" y="4464360"/>
            <a:ext cx="186696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Times New Roman"/>
              </a:rPr>
              <a:t>Extended High Level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Times New Roman"/>
              </a:rPr>
              <a:t>Languages (e.g., HPF)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036320" y="3656520"/>
            <a:ext cx="16603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Times New Roman"/>
              </a:rPr>
              <a:t>Parallel Language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Times New Roman"/>
              </a:rPr>
              <a:t>(e.g., Occam, Orca)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52040" y="2818080"/>
            <a:ext cx="244044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Times New Roman"/>
              </a:rPr>
              <a:t>Shared Memory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Times New Roman"/>
              </a:rPr>
              <a:t>Specifications (e.g., OpenMP)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79880" y="1980000"/>
            <a:ext cx="22485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Times New Roman"/>
              </a:rPr>
              <a:t>Message Passin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Times New Roman"/>
              </a:rPr>
              <a:t>Libraries (e.g., MPI, PVM)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153280" y="6477120"/>
            <a:ext cx="609840" cy="0"/>
          </a:xfrm>
          <a:prstGeom prst="line">
            <a:avLst/>
          </a:prstGeom>
          <a:ln w="1908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477120" y="4343400"/>
            <a:ext cx="2541240" cy="1905120"/>
            <a:chOff x="6477120" y="4343400"/>
            <a:chExt cx="2541240" cy="1905120"/>
          </a:xfrm>
        </p:grpSpPr>
        <p:sp>
          <p:nvSpPr>
            <p:cNvPr id="112" name=""/>
            <p:cNvSpPr/>
            <p:nvPr/>
          </p:nvSpPr>
          <p:spPr>
            <a:xfrm>
              <a:off x="6477120" y="5248440"/>
              <a:ext cx="2438280" cy="1000080"/>
            </a:xfrm>
            <a:prstGeom prst="ellipse">
              <a:avLst/>
            </a:prstGeom>
            <a:noFill/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88400" y="4343400"/>
              <a:ext cx="192996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cc00"/>
                  </a:solidFill>
                  <a:latin typeface="Times New Roman"/>
                </a:rPr>
                <a:t>User Transparen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cc00"/>
                  </a:solidFill>
                  <a:latin typeface="Times New Roman"/>
                </a:rPr>
                <a:t>Parallelization Tool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7543800" y="4915080"/>
              <a:ext cx="152280" cy="33336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4335840" y="5714640"/>
            <a:ext cx="2923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Times New Roman"/>
              </a:rPr>
              <a:t>Parallel Image Processing Librarie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68920"/>
            <a:ext cx="23828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Times New Roman"/>
              </a:rPr>
              <a:t>Parallel Image Processin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Times New Roman"/>
              </a:rPr>
              <a:t>Languages (e.g., Apply, IAL)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Existing Parallel Im.-Proc. Librarie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3962520"/>
            <a:ext cx="85345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duced maintainability / portability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34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multiple implementations for each operation: </a:t>
            </a:r>
            <a:r>
              <a:rPr b="0" lang="en-US" sz="1400" spc="-1" strike="noStrike">
                <a:solidFill>
                  <a:srgbClr val="ffcc66"/>
                </a:solidFill>
                <a:latin typeface="Times New Roman"/>
              </a:rPr>
              <a:t>[Jamieson94]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34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restricted to particular machine: </a:t>
            </a:r>
            <a:r>
              <a:rPr b="0" lang="en-US" sz="1400" spc="-1" strike="noStrike">
                <a:solidFill>
                  <a:srgbClr val="ffcc66"/>
                </a:solidFill>
                <a:latin typeface="Times New Roman"/>
              </a:rPr>
              <a:t>[Moore97, Webb93]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on-optimal efficiency of parallel execution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34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ignore machine characteristics for optimization: </a:t>
            </a:r>
            <a:r>
              <a:rPr b="0" lang="en-US" sz="1400" spc="-1" strike="noStrike">
                <a:solidFill>
                  <a:srgbClr val="ffcc66"/>
                </a:solidFill>
                <a:latin typeface="Times New Roman"/>
              </a:rPr>
              <a:t>[Juhasz98, Lee97]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2209680"/>
            <a:ext cx="81532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ffer from several problems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o ‘familiar’ programming model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identifying parallelism still responsibility of programmer:         (e.g., data partitioning </a:t>
            </a:r>
            <a:r>
              <a:rPr b="0" lang="en-US" sz="1400" spc="-1" strike="noStrike">
                <a:solidFill>
                  <a:srgbClr val="ffcc66"/>
                </a:solidFill>
                <a:latin typeface="Times New Roman"/>
              </a:rPr>
              <a:t>[Taniguchi97</a:t>
            </a:r>
            <a:r>
              <a:rPr b="0" lang="en-US" sz="1600" spc="-1" strike="noStrike">
                <a:solidFill>
                  <a:srgbClr val="ffcc66"/>
                </a:solidFill>
                <a:latin typeface="Times New Roman"/>
              </a:rPr>
              <a:t>]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, loop parallelism </a:t>
            </a:r>
            <a:r>
              <a:rPr b="0" lang="en-US" sz="1400" spc="-1" strike="noStrike">
                <a:solidFill>
                  <a:srgbClr val="ffcc66"/>
                </a:solidFill>
                <a:latin typeface="Times New Roman"/>
              </a:rPr>
              <a:t>[Nicolescu02, Olk95]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57200" y="6019920"/>
            <a:ext cx="8534520" cy="571320"/>
            <a:chOff x="457200" y="6019920"/>
            <a:chExt cx="8534520" cy="571320"/>
          </a:xfrm>
        </p:grpSpPr>
        <p:sp>
          <p:nvSpPr>
            <p:cNvPr id="121" name=""/>
            <p:cNvSpPr/>
            <p:nvPr/>
          </p:nvSpPr>
          <p:spPr>
            <a:xfrm>
              <a:off x="457200" y="6095880"/>
              <a:ext cx="85345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94000"/>
            </a:bodyPr>
            <a:p>
              <a:pPr lvl="2" marL="1074240" indent="-214560">
                <a:spcBef>
                  <a:spcPts val="349"/>
                </a:spcBef>
                <a:buClr>
                  <a:srgbClr val="ffcc66"/>
                </a:buClr>
                <a:buFont typeface="Times New Roman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cc"/>
                  </a:solidFill>
                  <a:latin typeface="Times New Roman"/>
                </a:rPr>
                <a:t>ignore optimization across library calls: </a:t>
              </a:r>
              <a:r>
                <a:rPr b="0" lang="en-US" sz="1400" spc="-1" strike="noStrike">
                  <a:solidFill>
                    <a:srgbClr val="ffcc66"/>
                  </a:solidFill>
                  <a:latin typeface="Times New Roman"/>
                </a:rPr>
                <a:t>[all]</a:t>
              </a:r>
              <a:r>
                <a:rPr b="0" lang="en-US" sz="2000" spc="-1" strike="noStrike">
                  <a:solidFill>
                    <a:srgbClr val="ffffcc"/>
                  </a:solidFill>
                  <a:latin typeface="Times New Roman"/>
                </a:rPr>
                <a:t> - partial: </a:t>
              </a:r>
              <a:r>
                <a:rPr b="0" lang="en-US" sz="1400" spc="-1" strike="noStrike">
                  <a:solidFill>
                    <a:srgbClr val="ffcc66"/>
                  </a:solidFill>
                  <a:latin typeface="Times New Roman"/>
                </a:rPr>
                <a:t>[Lee97, Morrow99]</a:t>
              </a:r>
              <a:endParaRPr b="0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2" name=""/>
            <p:cNvSpPr txBox="1"/>
            <p:nvPr/>
          </p:nvSpPr>
          <p:spPr>
            <a:xfrm>
              <a:off x="990720" y="6019920"/>
              <a:ext cx="152280" cy="571320"/>
            </a:xfrm>
            <a:prstGeom prst="rect">
              <a:avLst/>
            </a:prstGeom>
          </p:spPr>
          <p:txBody>
            <a:bodyPr wrap="none" lIns="91800" rIns="91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ff66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 Black"/>
                </a:rPr>
                <a:t>!</a:t>
              </a:r>
              <a:endParaRPr b="0" lang="en-US" sz="24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Our Approach: ParHoru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2209680"/>
            <a:ext cx="8534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Sustainabl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library-based software architecture for 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user transparent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parallel image process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57200" y="3200400"/>
            <a:ext cx="8534520" cy="3352680"/>
            <a:chOff x="457200" y="3200400"/>
            <a:chExt cx="8534520" cy="3352680"/>
          </a:xfrm>
        </p:grpSpPr>
        <p:sp>
          <p:nvSpPr>
            <p:cNvPr id="126" name=""/>
            <p:cNvSpPr/>
            <p:nvPr/>
          </p:nvSpPr>
          <p:spPr>
            <a:xfrm>
              <a:off x="457200" y="3200400"/>
              <a:ext cx="8534520" cy="335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>
                <a:spcBef>
                  <a:spcPts val="700"/>
                </a:spcBef>
                <a:buClr>
                  <a:srgbClr val="ffcc66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66"/>
                  </a:solidFill>
                  <a:latin typeface="Times New Roman"/>
                </a:rPr>
                <a:t>(1) Sustainability: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lvl="2" marL="1143000" indent="-228600">
                <a:spcBef>
                  <a:spcPts val="601"/>
                </a:spcBef>
                <a:buClr>
                  <a:srgbClr val="ffcc66"/>
                </a:buClr>
                <a:buFont typeface="Times New Roman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maintainability, extensibility, portability (</a:t>
              </a:r>
              <a:r>
                <a:rPr b="0" lang="en-US" sz="2000" spc="-1" strike="noStrike">
                  <a:solidFill>
                    <a:srgbClr val="ffffcc"/>
                  </a:solidFill>
                  <a:latin typeface="Times New Roman"/>
                </a:rPr>
                <a:t>i.e., Horus</a:t>
              </a: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lvl="2" marL="1143000" indent="-228600">
                <a:spcBef>
                  <a:spcPts val="601"/>
                </a:spcBef>
                <a:buClr>
                  <a:srgbClr val="ffcc66"/>
                </a:buClr>
                <a:buFont typeface="Times New Roman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applicability to Beowulf-type commodity clusters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127" name="das64c" descr=""/>
            <p:cNvPicPr/>
            <p:nvPr/>
          </p:nvPicPr>
          <p:blipFill>
            <a:blip r:embed="rId1"/>
            <a:stretch/>
          </p:blipFill>
          <p:spPr>
            <a:xfrm>
              <a:off x="3505320" y="4648320"/>
              <a:ext cx="2176200" cy="1823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8" name=""/>
          <p:cNvSpPr/>
          <p:nvPr/>
        </p:nvSpPr>
        <p:spPr>
          <a:xfrm>
            <a:off x="457200" y="4648320"/>
            <a:ext cx="8534520" cy="1904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(2) User transparency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trictly sequential API (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e.g., identical to Horus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tra-operation efficiency +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</a:rPr>
              <a:t>inter-operation efficienc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The Inter-Operation Optimization Problem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0880" y="2207520"/>
            <a:ext cx="3505320" cy="27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Times New Roman"/>
              </a:rPr>
              <a:t>SEQUENTIAL: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Times New Roman"/>
              </a:rPr>
              <a:t>readFile(ImA, “img.tif”);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Times New Roman"/>
              </a:rPr>
              <a:t>binPixOpV(ImA, ImB, “mult”, 3);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Times New Roman"/>
              </a:rPr>
              <a:t>binPixOpI(ImB, ImC, “add”, ImA);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Times New Roman"/>
              </a:rPr>
              <a:t>writeFile(ImC, “img2.tif”);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Times New Roman"/>
              </a:rPr>
              <a:t>delete(ImA);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Times New Roman"/>
              </a:rPr>
              <a:t>delete(ImB);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Times New Roman"/>
              </a:rPr>
              <a:t>delete(ImC);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2133720"/>
            <a:ext cx="3581280" cy="2895480"/>
          </a:xfrm>
          <a:prstGeom prst="rect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029200" y="3885840"/>
            <a:ext cx="1981080" cy="914400"/>
            <a:chOff x="5029200" y="3885840"/>
            <a:chExt cx="1981080" cy="914400"/>
          </a:xfrm>
        </p:grpSpPr>
        <p:sp>
          <p:nvSpPr>
            <p:cNvPr id="133" name=""/>
            <p:cNvSpPr/>
            <p:nvPr/>
          </p:nvSpPr>
          <p:spPr>
            <a:xfrm flipV="1">
              <a:off x="5029200" y="3885840"/>
              <a:ext cx="1981080" cy="152280"/>
            </a:xfrm>
            <a:prstGeom prst="line">
              <a:avLst/>
            </a:prstGeom>
            <a:ln w="3168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5029200" y="4647960"/>
              <a:ext cx="1981080" cy="152280"/>
            </a:xfrm>
            <a:prstGeom prst="line">
              <a:avLst/>
            </a:prstGeom>
            <a:ln w="3168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5029200" y="3657240"/>
            <a:ext cx="1981080" cy="1448280"/>
            <a:chOff x="5029200" y="3657240"/>
            <a:chExt cx="1981080" cy="1448280"/>
          </a:xfrm>
        </p:grpSpPr>
        <p:sp>
          <p:nvSpPr>
            <p:cNvPr id="136" name=""/>
            <p:cNvSpPr/>
            <p:nvPr/>
          </p:nvSpPr>
          <p:spPr>
            <a:xfrm flipV="1">
              <a:off x="5029200" y="3657240"/>
              <a:ext cx="1981080" cy="15228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5029200" y="4190760"/>
              <a:ext cx="1981080" cy="15228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5029200" y="4952880"/>
              <a:ext cx="1981080" cy="15264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380880" y="2133720"/>
            <a:ext cx="8534520" cy="4572000"/>
            <a:chOff x="380880" y="2133720"/>
            <a:chExt cx="8534520" cy="4572000"/>
          </a:xfrm>
        </p:grpSpPr>
        <p:sp>
          <p:nvSpPr>
            <p:cNvPr id="140" name=""/>
            <p:cNvSpPr/>
            <p:nvPr/>
          </p:nvSpPr>
          <p:spPr>
            <a:xfrm>
              <a:off x="5029200" y="2298600"/>
              <a:ext cx="3886200" cy="433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imes New Roman"/>
                </a:rPr>
                <a:t>PARALLEL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66"/>
                  </a:solidFill>
                  <a:latin typeface="Times New Roman"/>
                </a:rPr>
                <a:t>scatter(ImA, ImA*);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66"/>
                  </a:solidFill>
                  <a:latin typeface="Times New Roman"/>
                </a:rPr>
                <a:t>binPixOpV(ImA*, ImB*, “mult”, 3);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66"/>
                  </a:solidFill>
                  <a:latin typeface="Times New Roman"/>
                </a:rPr>
                <a:t>gather(ImB*, ImB);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66"/>
                  </a:solidFill>
                  <a:latin typeface="Times New Roman"/>
                </a:rPr>
                <a:t>delete(ImA*);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66"/>
                  </a:solidFill>
                  <a:latin typeface="Times New Roman"/>
                </a:rPr>
                <a:t>delete(ImB*);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66"/>
                  </a:solidFill>
                  <a:latin typeface="Times New Roman"/>
                </a:rPr>
                <a:t>scatter(ImA, ImA*);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66"/>
                  </a:solidFill>
                  <a:latin typeface="Times New Roman"/>
                </a:rPr>
                <a:t>scatter(ImB, ImB*);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66"/>
                  </a:solidFill>
                  <a:latin typeface="Times New Roman"/>
                </a:rPr>
                <a:t>binPixOpI(ImB*, ImC*, “add”, ImA*);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66"/>
                  </a:solidFill>
                  <a:latin typeface="Times New Roman"/>
                </a:rPr>
                <a:t>gather(ImC*, ImC);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66"/>
                  </a:solidFill>
                  <a:latin typeface="Times New Roman"/>
                </a:rPr>
                <a:t>delete(ImA*);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66"/>
                  </a:solidFill>
                  <a:latin typeface="Times New Roman"/>
                </a:rPr>
                <a:t>delete(ImB*);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66"/>
                  </a:solidFill>
                  <a:latin typeface="Times New Roman"/>
                </a:rPr>
                <a:t>delete(ImC*);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52880" y="2133720"/>
              <a:ext cx="3962520" cy="457200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905400" y="5790960"/>
              <a:ext cx="3505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cc"/>
                  </a:solidFill>
                  <a:latin typeface="Times New Roman"/>
                </a:rPr>
                <a:t> “</a:t>
              </a:r>
              <a:r>
                <a:rPr b="0" lang="en-US" sz="2000" spc="-1" strike="noStrike">
                  <a:solidFill>
                    <a:srgbClr val="ffffcc"/>
                  </a:solidFill>
                  <a:latin typeface="Times New Roman"/>
                </a:rPr>
                <a:t>Default Algorithm Expansion”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962520" y="3200400"/>
              <a:ext cx="914400" cy="485640"/>
            </a:xfrm>
            <a:custGeom>
              <a:avLst/>
              <a:gdLst>
                <a:gd name="textAreaLeft" fmla="*/ 142920 w 914400"/>
                <a:gd name="textAreaRight" fmla="*/ 800280 w 914400"/>
                <a:gd name="textAreaTop" fmla="*/ 121320 h 485640"/>
                <a:gd name="textAreaBottom" fmla="*/ 364320 h 48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80880" y="3165480"/>
              <a:ext cx="3429000" cy="630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cc"/>
                  </a:solidFill>
                  <a:latin typeface="Times New Roman"/>
                </a:rPr>
                <a:t>binPixOpV(ImA, ImB, “mult”, 3);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cc"/>
                  </a:solidFill>
                  <a:latin typeface="Times New Roman"/>
                </a:rPr>
                <a:t>binPixOpI(ImB, ImC, “add”, ImA);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952880" y="4495680"/>
              <a:ext cx="3962520" cy="0"/>
            </a:xfrm>
            <a:prstGeom prst="line">
              <a:avLst/>
            </a:prstGeom>
            <a:ln w="936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2209680" y="2362320"/>
            <a:ext cx="5105160" cy="1218960"/>
            <a:chOff x="2209680" y="2362320"/>
            <a:chExt cx="5105160" cy="1218960"/>
          </a:xfrm>
        </p:grpSpPr>
        <p:sp>
          <p:nvSpPr>
            <p:cNvPr id="147" name=""/>
            <p:cNvSpPr/>
            <p:nvPr/>
          </p:nvSpPr>
          <p:spPr>
            <a:xfrm>
              <a:off x="2209680" y="2362320"/>
              <a:ext cx="5105160" cy="121896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2209680" y="2362320"/>
              <a:ext cx="5105160" cy="121896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209680" y="2362320"/>
              <a:ext cx="510516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09680" y="3581280"/>
              <a:ext cx="510516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7314840" y="2362320"/>
              <a:ext cx="0" cy="121896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2209680" y="2362320"/>
              <a:ext cx="0" cy="121896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Intermezzo:                                 Distributed Image Data Structure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396252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istributed image data structure abstrac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3-tuple: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&lt;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state of global, state of local, distribution type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&gt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0880" y="4876920"/>
            <a:ext cx="87631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lvl="1" marL="727920" indent="-28008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tate of  global     =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{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none, created, valid, invalid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}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tate of  local       =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{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none, valid, invalid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}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istribution type  =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{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none, partial, full, not-reduced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}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906920" y="1981440"/>
            <a:ext cx="1450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CPU 0 (host)  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33960" y="3657960"/>
            <a:ext cx="753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CPU 3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904760" y="3657960"/>
            <a:ext cx="753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CPU 2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933960" y="1981440"/>
            <a:ext cx="753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CPU 1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2743560"/>
            <a:ext cx="1600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global structure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2362320"/>
            <a:ext cx="2286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990720" y="1828800"/>
          <a:ext cx="91440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828800"/>
                    <a:ext cx="9144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4" name=""/>
          <p:cNvGrpSpPr/>
          <p:nvPr/>
        </p:nvGrpSpPr>
        <p:grpSpPr>
          <a:xfrm>
            <a:off x="2209680" y="2362320"/>
            <a:ext cx="5105520" cy="1218960"/>
            <a:chOff x="2209680" y="2362320"/>
            <a:chExt cx="5105520" cy="1218960"/>
          </a:xfrm>
        </p:grpSpPr>
        <p:sp>
          <p:nvSpPr>
            <p:cNvPr id="165" name=""/>
            <p:cNvSpPr/>
            <p:nvPr/>
          </p:nvSpPr>
          <p:spPr>
            <a:xfrm>
              <a:off x="7162920" y="3429000"/>
              <a:ext cx="152280" cy="763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30600" bIns="306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209680" y="3429000"/>
              <a:ext cx="152640" cy="763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30600" bIns="306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7162920" y="2438280"/>
              <a:ext cx="152280" cy="763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30600" bIns="306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209680" y="2362320"/>
              <a:ext cx="510552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2209680" y="2362320"/>
              <a:ext cx="510552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209680" y="2362320"/>
              <a:ext cx="510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209680" y="3581280"/>
              <a:ext cx="510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7315200" y="2362320"/>
              <a:ext cx="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2209680" y="2362320"/>
              <a:ext cx="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965040" y="2819880"/>
              <a:ext cx="15199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cc"/>
                  </a:solidFill>
                  <a:latin typeface="Times New Roman"/>
                </a:rPr>
                <a:t>local structure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352680" y="2743200"/>
              <a:ext cx="609840" cy="15228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486400" y="3048120"/>
              <a:ext cx="609480" cy="15228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5486040" y="2743200"/>
              <a:ext cx="609480" cy="15228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3352680" y="3048120"/>
              <a:ext cx="609840" cy="15228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209680" y="2438280"/>
              <a:ext cx="152640" cy="763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30600" bIns="306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aphicFrame>
          <p:nvGraphicFramePr>
            <p:cNvPr id="180" name=""/>
            <p:cNvGraphicFramePr/>
            <p:nvPr/>
          </p:nvGraphicFramePr>
          <p:xfrm>
            <a:off x="6248520" y="3200400"/>
            <a:ext cx="914400" cy="228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248520" y="3200400"/>
                      <a:ext cx="914400" cy="22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2" name=""/>
            <p:cNvGraphicFramePr/>
            <p:nvPr/>
          </p:nvGraphicFramePr>
          <p:xfrm>
            <a:off x="2362320" y="3200400"/>
            <a:ext cx="914400" cy="228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8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362320" y="3200400"/>
                      <a:ext cx="914400" cy="22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4" name=""/>
            <p:cNvGraphicFramePr/>
            <p:nvPr/>
          </p:nvGraphicFramePr>
          <p:xfrm>
            <a:off x="6248520" y="2514600"/>
            <a:ext cx="914400" cy="2286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8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248520" y="2514600"/>
                      <a:ext cx="914400" cy="22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6" name=""/>
            <p:cNvGraphicFramePr/>
            <p:nvPr/>
          </p:nvGraphicFramePr>
          <p:xfrm>
            <a:off x="2362320" y="2514600"/>
            <a:ext cx="914400" cy="2286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8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362320" y="2514600"/>
                      <a:ext cx="914400" cy="22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88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108160" y="2286000"/>
            <a:ext cx="152280" cy="152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108160" y="3505320"/>
            <a:ext cx="152280" cy="152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0880" y="6172200"/>
            <a:ext cx="8763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9 combinations are ‘legal’ states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(e.g.: &lt;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valid, valid, partial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&gt; 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Lazy Parallelization (1)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2209680"/>
            <a:ext cx="86104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stead of ‘default algorithm expansion’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sert communication- &amp; memory-management operations only when mandator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4920" y="3581280"/>
            <a:ext cx="845820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efine for each image operation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(see Tables 3 &amp; 4 in paper)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allowed states for each input data structu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resulting states for each output data structu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n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serted communication- &amp; memory-operations serve as state transition functions for resolution of state inconsistenci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Reduced State Transition Graph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2209680" y="1523880"/>
          <a:ext cx="4856400" cy="516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523880"/>
                    <a:ext cx="4856400" cy="516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8T10:41:29Z</dcterms:created>
  <dc:creator>Faculteit WINS</dc:creator>
  <dc:description/>
  <dc:language>en-US</dc:language>
  <cp:lastModifiedBy>fjseins</cp:lastModifiedBy>
  <cp:lastPrinted>1999-03-31T15:06:03Z</cp:lastPrinted>
  <dcterms:modified xsi:type="dcterms:W3CDTF">2003-04-15T13:30:18Z</dcterms:modified>
  <cp:revision>108</cp:revision>
  <dc:subject/>
  <dc:title>P-3PC: A Simple and Accurate Model of Point-to-Point Communication</dc:title>
</cp:coreProperties>
</file>